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532-8958-40FC-B216-EDAA5BBF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F1F1-0765-4CD8-9FE2-AA62D242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FBCF-2140-4326-8384-1A84F0ED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0CBA-062F-48A6-811C-EF0526BB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0E64-6B6E-45BA-8B4E-16DC4594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3656-806D-4F32-B610-05741C03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06FA-38D8-439F-8A70-602BF213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F71D-E5F4-4F01-BB5B-888AE0EF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3F93-900E-46D4-9F80-2966EAFB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A47F-9CC1-4DBB-969A-E7CF04A1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7B39-F475-4015-A5FE-E45A7D81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466-7890-4BCB-8EC3-5916DB9F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4872-609C-4B2D-BA18-A51B636F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9A2A-A921-46FB-B146-14157F6D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63B1-615B-41FF-8508-29C07223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2C17-0CF6-48AC-8D81-3597DEC6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0163-8C7D-424F-B058-FEC60200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C9840C-9AFE-46E8-9CDE-EC59EE27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032227-0D3E-401B-92AF-75FCB7CB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B903C-A379-4B0E-BA68-9D52AFC7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E3BD2-4A18-4F4F-A7AC-6E851AD7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D6062-4075-4272-A428-DD95D619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412-E6B2-4C5E-B4DE-A004DD00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A011B-4DA2-45A8-90AA-D0DA7D80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B499C3-5DBF-4C54-90CB-8F093F5C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2FD87-9A3D-4146-9F3A-C06F0804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80A0F-CBBE-4D54-9CE8-593FBAA6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B961A-FF15-45B2-9E83-23CB8800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D21F4-25B8-4A5A-9A3E-DA43A094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B2BB9F-4092-4F29-857A-F77274BE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C5E19-5288-4E1B-8B71-6C58D5AC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C09AE-94F4-4796-A6CE-901A111A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0F7DC-F098-4108-B687-23B29815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B5AF-16D4-4415-A3E3-D77123B3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EC08B-50C8-4F3D-AFCD-93284425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0412F-7A43-4F22-8FA1-13159F21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6756E-3494-4E8D-9377-3E6820B5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C0320-2EB2-4F6A-9999-ACC5581C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BD901-A91A-4159-9F9E-FCE88F3B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C2530-DE22-4FE5-8023-A67B461F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B80F7-316F-495F-A530-C4DB5D65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6B3CC-4F9E-4046-B67B-380284B8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995D9-4190-4D71-BB17-B45190E5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7157B8-87C8-4067-9F84-3C65BDD1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98F-84E3-41B1-ADFA-8188BBD7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15D97F-C782-4144-88BE-3B5D6661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B6B17-AA1F-4E3B-89E9-E19EB5A5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4603D7-74EB-4E96-8E15-91FC5C87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FAC505-4192-417E-AB61-03F09673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4257A6-8C87-44A7-AF30-BABBB5A1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9884DD-3E1B-453B-B37F-CB8558E9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3E88C4-6124-4276-A7CE-FE5D3ADE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5CC118-6FF6-4A22-8AC7-E7B3295B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0D9B15-3609-4E39-95C0-C58F36F1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5FAACA-B49A-4BF5-B25B-3E530D65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6C6-53E1-4B55-A2B8-8CFBBE89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62368-242F-478A-A827-C873D274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88D676-E5F3-4F75-800D-3A505901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353AC2-2180-40EC-B737-BC5FC42D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FFEDD5-DDF7-4582-B562-0C3EC0C4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729124-0E4D-43C3-8520-9C623954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0A7A64-B43C-4CB9-B5A8-523C6236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E623F7-C31B-4CED-AA29-DBB79F04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6B2EAA-85D9-430E-8B93-C3877280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1199E2-5242-412A-BBC2-482F3F53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F8F7AC-4D53-48E2-8D20-27A54E54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FBB-DFD2-444E-8FB5-51E1640D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3111AA-160B-4BF3-9250-4CAB662C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BF3AFC-1055-4930-A87D-0336BCF4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9475D6-DBED-4DB7-9A71-487D634F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94D5C1-92A5-4E3C-9C6B-5BE5DFAF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F8FC97-A0E5-4F48-9BFF-57E7BC1E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DB5CF8-28EC-491F-8B1A-FCD12508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949B5-CACD-450B-A780-56AD02C1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A1EDD4-3682-4094-9D19-F73D84DC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1D1141-899C-4F93-A650-A2EBCDAB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A412E9-0050-4820-AB83-4E79940F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007-54A7-4B4F-830C-EEF3A2D8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DDAB79-D7B1-4902-A8C9-7454FA2C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5F8E0D-68A1-42E1-98AA-F6A4A7F5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5B3AD3-7853-408E-BC87-EC55971E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D2284A-5814-45EA-8D91-4DC8F0E8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C09206-ECCB-4F38-936A-5EF5803B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82F5-6015-4D15-9E37-393A9E0B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B012-412C-4E5B-8953-D33F437284A5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A561-E645-4B59-9DE7-6D9DF2B702EC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6AF1-153D-4EFC-89BF-A5D58EC3ECB8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A93C-BE1A-4586-9ED9-B2C2D855830E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BE4B-7A3A-4CC1-B195-0970D5907812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46FB-EBC8-413D-BB37-6E0BFDCA12AE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9C98-1B7E-4B40-91D3-4F61D1004EB9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83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     پنجم  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28.jpg"/>
          <p:cNvPicPr/>
          <p:nvPr/>
        </p:nvPicPr>
        <p:blipFill>
          <a:blip r:embed="rId1"/>
          <a:stretch/>
        </p:blipFill>
        <p:spPr>
          <a:xfrm>
            <a:off x="3419640" y="25560"/>
            <a:ext cx="5724360" cy="69292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E:\E\دانشکده چمران\98\ترم دوم\عناصر و جزئیات\New Doc ۲۰۲۰-۰۴-۰۴_29.jpg"/>
          <p:cNvPicPr/>
          <p:nvPr/>
        </p:nvPicPr>
        <p:blipFill>
          <a:blip r:embed="rId1"/>
          <a:stretch/>
        </p:blipFill>
        <p:spPr>
          <a:xfrm>
            <a:off x="3995640" y="0"/>
            <a:ext cx="5113440" cy="69912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E:\E\دانشکده چمران\98\ترم دوم\عناصر و جزئیات\New Doc ۲۰۲۰-۰۴-۰۴_30.jpg"/>
          <p:cNvPicPr/>
          <p:nvPr/>
        </p:nvPicPr>
        <p:blipFill>
          <a:blip r:embed="rId1"/>
          <a:stretch/>
        </p:blipFill>
        <p:spPr>
          <a:xfrm>
            <a:off x="3780000" y="12600"/>
            <a:ext cx="5333760" cy="6954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E:\E\دانشکده چمران\98\ترم دوم\عناصر و جزئیات\New Doc ۲۰۲۰-۰۴-۰۴_31.jpg"/>
          <p:cNvPicPr/>
          <p:nvPr/>
        </p:nvPicPr>
        <p:blipFill>
          <a:blip r:embed="rId1"/>
          <a:stretch/>
        </p:blipFill>
        <p:spPr>
          <a:xfrm>
            <a:off x="3276720" y="33480"/>
            <a:ext cx="5867280" cy="6873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E:\E\دانشکده چمران\98\ترم دوم\عناصر و جزئیات\New Doc ۲۰۲۰-۰۴-۰۴_32.jpg"/>
          <p:cNvPicPr/>
          <p:nvPr/>
        </p:nvPicPr>
        <p:blipFill>
          <a:blip r:embed="rId1"/>
          <a:stretch/>
        </p:blipFill>
        <p:spPr>
          <a:xfrm>
            <a:off x="3708360" y="6480"/>
            <a:ext cx="5435640" cy="67960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6T15:48:11Z</dcterms:modified>
  <cp:revision>631</cp:revision>
  <dc:subject/>
  <dc:title>Slide 1</dc:title>
</cp:coreProperties>
</file>