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36142-CDA2-4158-9AB1-31BC51E72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BBB92-F3B3-47EA-99E8-C9E32F64C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99281-ED52-429C-BFDF-B787BB3C5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B7733-A813-4AF7-A7B9-EB7DE098A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ADB95-EF21-4940-8B32-4FB102712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0DAB4-A2F4-48C6-91F8-B3B39F402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1A96B-81B4-484A-9B8C-B1F0F8302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A7F89-B4C0-4CA5-8753-3AB2C2728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38FD8-B22B-4506-9FD7-B28CE11CB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F8033-336B-407F-AD4F-C664F0293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EE6BE-B0F9-4F80-8698-A3EED1010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30DFD-ADF3-4DB8-A958-EF4EC8820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A0086-98D7-445C-BB08-1371416F9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00C4C-E01D-425B-8447-6BB353A92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EA0C1-FA50-4D3C-B01D-26A63CD80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1FB01-8DAC-43D9-997A-9974AA0E0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7F05A-9A7E-4537-A6C3-86606A45F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0FED760-1ECF-4CAB-A6D7-304EB74C0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C81FC7-D007-4E65-ACA4-59B9162B2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62DC723-E6EF-476A-832A-80919B664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72B6BDC-0C83-4027-B5AF-92C909D5B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E3BFE0C-7EA1-476B-8C7F-5CA48C36C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59304-9DA8-4A40-99B4-C0F1BFD1E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B8A9D15-0D2C-4CA0-A0F0-15C08BE39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736691D-C9CC-47E8-AD25-00C89ADCE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F0E4331-5FCD-4338-8458-E4A73C73D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544440A-B040-48CD-A3FD-9F38940A2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A02130-76B7-4DF3-AE4A-ABA74A540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DBB786B-63F3-43B0-97A5-F3B44C095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E33C008-5463-444C-85E0-13C629892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E8AA3D-4B11-49B4-B424-E855585ED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5FE30A-3B79-494C-BA50-F6C061D12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CF6323-928E-48BA-9B30-04754F6EC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40C7F-7D27-472D-8B40-A170B224B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1C5475-F556-47FD-A767-E366AE863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F07321-A201-43E8-A834-B94995DA0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CF8D47-6C95-45F2-87FB-95BFFE570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70604C-E41E-4232-BBBC-A61CC3972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5DE279-946C-4E13-AEE8-969AB897A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A3D642-6E64-44A2-B705-3300480F9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DC7406-D346-4A5C-A0F3-C2C6B8AE3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090020-5322-4B49-9B19-B6E9BA7C6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49A703-6157-49A4-8640-BC4DE8F2B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3C538A1-B5B0-48C7-8781-B8A406810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5E3B5-44AF-47C6-A82E-EFD8520D1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384C214-675E-4C1B-BC41-C73D1EBC0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E1095D5-8F97-413B-918F-EEC756C7D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21EC3B0-3FD9-4BFE-A7C6-69F747DD7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C86A320-FC0F-40F9-861D-8711D0961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035F129-848B-4AAB-A8D3-8F059FD49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E058321-2B1D-4365-8208-9C66A3AE9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08189B0-78CE-4795-A64B-0DE41DF01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7D54B34-9ACA-4986-B030-8E8236B43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F2C24FB-C9E4-4D70-AB36-8ABCE418B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F0E3E10-B578-4E60-9C82-E1E913EAA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D9A43-0B9C-4656-A2A4-AECB09432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52B6920-7C56-4A4A-BD1B-A9A6F604D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AB2B1BB-C4B3-4066-AA8C-55030CCC1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5A49A2C-ACEE-4545-891F-8D4BDE802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50B540D-86D9-48EE-B8D4-39951EC99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476C93A-5E9C-4FB9-98D4-FA558E487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1051E47-5001-414E-8DEC-C7C77CC15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A8744BB-A4BC-4C1F-915E-31680CD29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9FE882E-AF93-4FC6-A166-3ACEE2B04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5930C72-9116-44F4-BF5C-57D61744C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724D85F-C4ED-4D0B-B3BF-BB159AE93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84E96-2C15-4B58-BF89-C403F47EC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C439806-4A72-4218-BC40-5253EBAD7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54D7838-741C-43AE-82F8-10036AE2B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734F90D-90D5-403B-A879-F74367884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8D4C1B7-AFB3-4BF6-87DB-DDF75AC12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AD9C129-B333-493C-A274-0B6D8779B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19571D0-2196-4B0E-9590-7CE81214B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AF11F70-4D4B-499B-B557-5A2AE3537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F052BF7-7163-4958-93E6-3C60DB78F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7245B0B-DEF9-4E1B-9C9C-4B3ED8682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7F5B6D7-0F0C-436D-9A0B-1E9B6B7CE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051DA-E9B7-460D-983D-224E8BE55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70EB875-1967-45C7-AEEE-93F2744B8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A1C3EAB-A14A-4F3A-83FA-079999955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F485DC8-17ED-4E8F-A81D-14596895D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A293326-D758-4392-A1DF-50933A1E9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162A64A-8A8E-4BFA-82DA-49CB89B55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C99F0-BC09-4B2B-848E-8D63B09D9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1f497d"/>
                </a:solidFill>
                <a:latin typeface="Century Schoolbook"/>
                <a:ea typeface="Times New Roman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1f497d"/>
                </a:solidFill>
                <a:latin typeface="Century Schoolbook"/>
                <a:ea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90FE0-8919-474C-91A9-56C5F68FE177}" type="slidenum">
              <a: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b2c1db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d0d8e8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d0d8e8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9edf4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b2c1db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9edf4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b2c1db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Straight Connector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b2c1db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1f497d"/>
                </a:solidFill>
                <a:latin typeface="Century Schoolbook"/>
                <a:ea typeface="Times New Roman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1f497d"/>
                </a:solidFill>
                <a:latin typeface="Century Schoolbook"/>
                <a:ea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29639-7263-4B34-BAAD-7C78B54DBED7}" type="slidenum">
              <a: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1f497d"/>
                </a:solidFill>
                <a:latin typeface="Century Schoolbook"/>
                <a:ea typeface="Times New Roman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1f497d"/>
                </a:solidFill>
                <a:latin typeface="Century Schoolbook"/>
                <a:ea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25A24-BAD3-43E6-894C-1B0BB695A774}" type="slidenum">
              <a: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b2c1db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d0d8e8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d0d8e8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9edf4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b2c1db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9edf4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b2c1db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b2c1db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Oval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Oval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Oval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Oval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Oval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traight Connector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eece1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eeece1"/>
                </a:solidFill>
                <a:latin typeface="Century Schoolbook"/>
                <a:ea typeface="Times New Roman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eeece1"/>
                </a:solidFill>
                <a:latin typeface="Century Schoolbook"/>
                <a:ea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18935-DE4B-46CB-B966-7D4761A0FD8A}" type="slidenum">
              <a: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1f497d"/>
                </a:solidFill>
                <a:latin typeface="Century Schoolbook"/>
                <a:ea typeface="Times New Roman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1f497d"/>
                </a:solidFill>
                <a:latin typeface="Century Schoolbook"/>
                <a:ea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E9E47-7ED4-4C99-B440-7090A97B67FA}" type="slidenum">
              <a: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Straight Connector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Straight Connector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Oval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1f497d"/>
                </a:solidFill>
                <a:latin typeface="Century Schoolbook"/>
                <a:ea typeface="Times New Roman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1f497d"/>
                </a:solidFill>
                <a:latin typeface="Century Schoolbook"/>
                <a:ea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E6CAB-DE75-4721-B9BB-99F38484B609}" type="slidenum">
              <a: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Oval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Straight Connector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Straight Connector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Straight Connector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Straight Connector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1f497d"/>
                </a:solidFill>
                <a:latin typeface="Century Schoolbook"/>
                <a:ea typeface="Times New Roman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1f497d"/>
                </a:solidFill>
                <a:latin typeface="Century Schoolbook"/>
                <a:ea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59A88-3EDB-4C23-9538-49A3CD85BA9E}" type="slidenum">
              <a: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Oval 21"/>
          <p:cNvSpPr/>
          <p:nvPr/>
        </p:nvSpPr>
        <p:spPr>
          <a:xfrm>
            <a:off x="8101080" y="5683320"/>
            <a:ext cx="647640" cy="5983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Rectangle 4"/>
          <p:cNvSpPr/>
          <p:nvPr/>
        </p:nvSpPr>
        <p:spPr>
          <a:xfrm>
            <a:off x="1835280" y="2133720"/>
            <a:ext cx="6769080" cy="83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e46c0a"/>
                </a:solidFill>
                <a:latin typeface="Calibri"/>
                <a:cs typeface="IranNastaliq"/>
              </a:rPr>
              <a:t>جلسه      پنجم    آموزش مجازی</a:t>
            </a:r>
            <a:r>
              <a:rPr b="0" lang="fa-IR" sz="4400" spc="-1" strike="noStrike">
                <a:solidFill>
                  <a:srgbClr val="e46c0a"/>
                </a:solidFill>
                <a:latin typeface="Calibri"/>
                <a:ea typeface="IranNastaliq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e46c0a"/>
                </a:solidFill>
                <a:latin typeface="Calibri"/>
                <a:cs typeface="IranNastaliq"/>
              </a:rPr>
              <a:t>عنوان درس: عناصر    و     جزئیات   ساختما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e46c0a"/>
                </a:solidFill>
                <a:latin typeface="Calibri"/>
                <a:cs typeface="IranNastaliq"/>
              </a:rPr>
              <a:t>رشته: کاردانی پیوسته نقشه کشی معمار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e46c0a"/>
                </a:solidFill>
                <a:latin typeface="Calibri"/>
                <a:cs typeface="IranNastaliq"/>
              </a:rPr>
              <a:t>مدرس: بهزاد آقاخان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e46c0a"/>
                </a:solidFill>
                <a:latin typeface="Calibri"/>
                <a:cs typeface="IranNastaliq"/>
              </a:rPr>
              <a:t>شماره تماس جهت گروه واتس آپ:  </a:t>
            </a:r>
            <a:r>
              <a:rPr b="0" lang="fa-IR" sz="4400" spc="-1" strike="noStrike">
                <a:solidFill>
                  <a:srgbClr val="e46c0a"/>
                </a:solidFill>
                <a:latin typeface="Calibri"/>
                <a:ea typeface="IranNastaliq"/>
              </a:rPr>
              <a:t>0937325773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5"/>
          <p:cNvSpPr/>
          <p:nvPr/>
        </p:nvSpPr>
        <p:spPr>
          <a:xfrm>
            <a:off x="3995640" y="-100080"/>
            <a:ext cx="1724040" cy="12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e46c0a"/>
                </a:solidFill>
                <a:latin typeface="Calibri"/>
                <a:cs typeface="IranNastaliq"/>
              </a:rPr>
              <a:t>به نام خد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6"/>
          <p:cNvSpPr/>
          <p:nvPr/>
        </p:nvSpPr>
        <p:spPr>
          <a:xfrm>
            <a:off x="5665680" y="754200"/>
            <a:ext cx="3097440" cy="177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558ed5"/>
                </a:solidFill>
                <a:latin typeface="Calibri"/>
                <a:cs typeface="IranNastaliq"/>
              </a:rPr>
              <a:t>دانشکده فنی و حرفه ای پسران چمران اهوا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9" name="Picture 5" descr="C:\Users\Novin Pendar\Desktop\آرم دانشکده.JPG"/>
          <p:cNvPicPr/>
          <p:nvPr/>
        </p:nvPicPr>
        <p:blipFill>
          <a:blip r:embed="rId1"/>
          <a:stretch/>
        </p:blipFill>
        <p:spPr>
          <a:xfrm>
            <a:off x="1763640" y="620640"/>
            <a:ext cx="2772000" cy="19051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Oval 15"/>
          <p:cNvSpPr/>
          <p:nvPr/>
        </p:nvSpPr>
        <p:spPr>
          <a:xfrm>
            <a:off x="8101080" y="5683320"/>
            <a:ext cx="647640" cy="5983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Picture 5" descr="E:\E\دانشکده چمران\98\ترم دوم\عناصر و جزئیات\New Doc ۲۰۲۰-۰۴-۰۴_28.jpg"/>
          <p:cNvPicPr/>
          <p:nvPr/>
        </p:nvPicPr>
        <p:blipFill>
          <a:blip r:embed="rId1"/>
          <a:stretch/>
        </p:blipFill>
        <p:spPr>
          <a:xfrm>
            <a:off x="3419640" y="25560"/>
            <a:ext cx="5724360" cy="6929280"/>
          </a:xfrm>
          <a:prstGeom prst="rect">
            <a:avLst/>
          </a:prstGeom>
          <a:ln w="0">
            <a:noFill/>
          </a:ln>
        </p:spPr>
      </p:pic>
    </p:spTree>
  </p:cSld>
  <p:transition spd="med">
    <p:push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Oval 15"/>
          <p:cNvSpPr/>
          <p:nvPr/>
        </p:nvSpPr>
        <p:spPr>
          <a:xfrm>
            <a:off x="8101080" y="5683320"/>
            <a:ext cx="647640" cy="5983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3" name="Picture 2" descr="E:\E\دانشکده چمران\98\ترم دوم\عناصر و جزئیات\New Doc ۲۰۲۰-۰۴-۰۴_29.jpg"/>
          <p:cNvPicPr/>
          <p:nvPr/>
        </p:nvPicPr>
        <p:blipFill>
          <a:blip r:embed="rId1"/>
          <a:stretch/>
        </p:blipFill>
        <p:spPr>
          <a:xfrm>
            <a:off x="3995640" y="0"/>
            <a:ext cx="5113440" cy="6991200"/>
          </a:xfrm>
          <a:prstGeom prst="rect">
            <a:avLst/>
          </a:prstGeom>
          <a:ln w="0">
            <a:noFill/>
          </a:ln>
        </p:spPr>
      </p:pic>
    </p:spTree>
  </p:cSld>
  <p:transition spd="med">
    <p:push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Oval 15"/>
          <p:cNvSpPr/>
          <p:nvPr/>
        </p:nvSpPr>
        <p:spPr>
          <a:xfrm>
            <a:off x="8101080" y="5683320"/>
            <a:ext cx="647640" cy="5983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Picture 2" descr="E:\E\دانشکده چمران\98\ترم دوم\عناصر و جزئیات\New Doc ۲۰۲۰-۰۴-۰۴_30.jpg"/>
          <p:cNvPicPr/>
          <p:nvPr/>
        </p:nvPicPr>
        <p:blipFill>
          <a:blip r:embed="rId1"/>
          <a:stretch/>
        </p:blipFill>
        <p:spPr>
          <a:xfrm>
            <a:off x="3780000" y="12600"/>
            <a:ext cx="5333760" cy="6954840"/>
          </a:xfrm>
          <a:prstGeom prst="rect">
            <a:avLst/>
          </a:prstGeom>
          <a:ln w="0">
            <a:noFill/>
          </a:ln>
        </p:spPr>
      </p:pic>
    </p:spTree>
  </p:cSld>
  <p:transition spd="med">
    <p:push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Oval 15"/>
          <p:cNvSpPr/>
          <p:nvPr/>
        </p:nvSpPr>
        <p:spPr>
          <a:xfrm>
            <a:off x="8101080" y="5683320"/>
            <a:ext cx="647640" cy="5983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Picture 2" descr="E:\E\دانشکده چمران\98\ترم دوم\عناصر و جزئیات\New Doc ۲۰۲۰-۰۴-۰۴_31.jpg"/>
          <p:cNvPicPr/>
          <p:nvPr/>
        </p:nvPicPr>
        <p:blipFill>
          <a:blip r:embed="rId1"/>
          <a:stretch/>
        </p:blipFill>
        <p:spPr>
          <a:xfrm>
            <a:off x="3276720" y="33480"/>
            <a:ext cx="5867280" cy="6873840"/>
          </a:xfrm>
          <a:prstGeom prst="rect">
            <a:avLst/>
          </a:prstGeom>
          <a:ln w="0">
            <a:noFill/>
          </a:ln>
        </p:spPr>
      </p:pic>
    </p:spTree>
  </p:cSld>
  <p:transition spd="med">
    <p:push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Oval 15"/>
          <p:cNvSpPr/>
          <p:nvPr/>
        </p:nvSpPr>
        <p:spPr>
          <a:xfrm>
            <a:off x="8101080" y="5683320"/>
            <a:ext cx="647640" cy="5983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Picture 2" descr="E:\E\دانشکده چمران\98\ترم دوم\عناصر و جزئیات\New Doc ۲۰۲۰-۰۴-۰۴_32.jpg"/>
          <p:cNvPicPr/>
          <p:nvPr/>
        </p:nvPicPr>
        <p:blipFill>
          <a:blip r:embed="rId1"/>
          <a:stretch/>
        </p:blipFill>
        <p:spPr>
          <a:xfrm>
            <a:off x="3708360" y="6480"/>
            <a:ext cx="5435640" cy="6796080"/>
          </a:xfrm>
          <a:prstGeom prst="rect">
            <a:avLst/>
          </a:prstGeom>
          <a:ln w="0">
            <a:noFill/>
          </a:ln>
        </p:spPr>
      </p:pic>
    </p:spTree>
  </p:cSld>
  <p:transition spd="med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8T19:22:35Z</dcterms:created>
  <dc:creator>iman</dc:creator>
  <dc:description/>
  <dc:language>en-US</dc:language>
  <cp:lastModifiedBy>Novin Pendar</cp:lastModifiedBy>
  <dcterms:modified xsi:type="dcterms:W3CDTF">2020-04-06T15:48:11Z</dcterms:modified>
  <cp:revision>631</cp:revision>
  <dc:subject/>
  <dc:title>Slide 1</dc:title>
</cp:coreProperties>
</file>