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998-6007-44B6-A6F5-EC8E0354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74B-1FE3-4E8C-A08B-9DD1382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474-9EFD-49D8-B4C0-2D91F2E0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C1C-457D-4783-A70D-E368BCA8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F202-B3DA-4ED5-95A6-CB319D37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4FB3-5F63-4077-B386-A21ACD77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5B23-4BF5-46CC-B4AD-17E4AE3F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3A3-CF39-4755-B5F3-7268C5D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7DCF-380D-4191-B37D-5D73F0DE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0266-BDCB-4BC4-A0F9-A9700AB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EAD9-7D80-4886-B1E0-8F1EF2D5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0C5-C589-4471-9457-DE1C6C2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1B09-A988-482C-92E4-4DD47EEF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3784-B03A-4F0B-A9E7-C131FA0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68B1-34B2-4432-BCC6-84E4E365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89CA-F98B-4CE2-8411-5DCC813F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260D-6CD3-4703-8938-4A2C9394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BF865-5920-4F01-9F86-FE5DC2BB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4DA82-6D75-46BF-B5C2-0336D8EA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18D35-0CE3-48E9-BE9B-BD9F0850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DA307-2926-4401-82D1-53463CA7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ADA0F-CDFC-44FA-849C-6BA3EA98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766-9189-4C51-B765-8384E6C4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A50B7-F0FE-444A-9B92-6B51B792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04EB4-11AA-48F6-A620-5B14806D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8BFB9-32E4-409D-878D-00C2A2B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E442C-8175-4AB7-925F-DE7D1E8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49ED1-8BF2-42A4-90BB-A3F5DE1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7700D-D5D1-4F91-A684-85BB1607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7F7FA-7283-43B6-A4F3-5C3F2DC0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1E3E-498D-4B26-8DFF-3649741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67EC-B4F5-45EC-ABCB-D30AE6D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E36A-C75F-46FD-BFE1-117319F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BAE-5C4B-4E21-A94F-EA08330E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B116D-A9B2-4CBE-956B-82BED4B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4796A-A23D-4F3C-B92F-5F1B842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52A5-5C4B-457C-9E97-2ED90CE4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A782-E5AC-469B-ACD5-734B21D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7255-998F-4FC2-99D1-4A36A15F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7AB7-1297-4AB9-9515-3C920F5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CB09-D69E-49B1-AF64-4D89804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30F2-7D8B-44FF-AA70-DA6AF77B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8923-762F-4BAB-B074-9492AA9D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DA7E1-9F19-429D-B201-31D34B55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300-ADEC-416C-94CC-7502A56C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02922-8FB0-43DE-ABD4-5EBA273F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5D33B-AB2F-41BF-A0B2-7CF5B854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2D008-94C0-4D87-8535-87F373C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666FF-6E8C-4028-9B53-3BCD1F71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8C02A-188F-44B7-A239-0DC126C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786A2-B732-4862-AF7A-422E291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44E24-5C1D-4242-B592-0FDBA2C6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E6759-EFEC-4C9C-9DAA-8E2C2C85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FA312-5FCA-4914-BD96-7441FDB2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0C853-658C-43B4-87CA-527106BF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546-7EEB-45BD-B07E-7DDEF6A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963AB-6A5F-4A53-971F-20C1D97C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F88DB-3CB4-4BCA-9378-EAD0279D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7D9C3-C285-481E-8192-5BD23BF2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94C9B-5F23-481A-866B-F3F6DF49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A432E-4198-40F3-8308-E748A053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3048E-4116-47B9-8893-1E084DDF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99A34-2DAF-490C-8B6C-FE68E67F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381AB-0D7F-4F74-8B86-64C9C36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E4D66-25C5-47CE-BFB7-029ACDB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F69E7-F55D-4717-AB4D-4F5E290E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17C-B98F-4933-AB49-C1E8E15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C612A-A88B-4C47-9272-CBE7A38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FA6D1-600B-41BA-8AC0-96CF8EB7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EAA50-A728-4E26-891F-3C7E612C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081DF0-1871-484C-B1BC-F6A5D5BC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783E9-99EA-4CC3-B8B7-BE509903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F90AA-2E6C-4FE5-9A15-781CBA9F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68215-5AC5-4DBF-8A2F-FCD560A8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7E147-1132-4C74-A679-D825865F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04763-1602-43A8-9DFD-17CCBDEC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03B30-87A7-4EA8-8F9B-BB7BC24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FA7-D621-4401-8433-D2D8F896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8DB3F-4886-4FCD-BB86-02A3AF8B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EF168-893D-4630-B8DA-3ECFB72F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E0584-396C-4B62-87A5-57FABC52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6B80A-4195-44FF-B0D0-3BBC9847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9C6B1-157D-49E1-AA73-1FE3A546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F98-D119-4475-B953-D7A360D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D83B-B8D3-4EF3-8D65-201645E2A43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FE2C-D229-4605-849F-0EA561989CF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43A1-2D4B-4760-8022-6670D8FBB12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E8F4-726B-4D50-BA1F-0776ABD87F2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2720-43F8-4C98-BF30-D79BACEDC3E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BB03-DFBC-4671-9EA7-2F1A20151B9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2403-B4FB-4A4D-B782-FB18718F71D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چهارم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1.jpg"/>
          <p:cNvPicPr/>
          <p:nvPr/>
        </p:nvPicPr>
        <p:blipFill>
          <a:blip r:embed="rId1"/>
          <a:stretch/>
        </p:blipFill>
        <p:spPr>
          <a:xfrm>
            <a:off x="3419640" y="0"/>
            <a:ext cx="5709960" cy="694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E:\E\دانشکده چمران\98\ترم دوم\عناصر و جزئیات\New Doc ۲۰۲۰-۰۴-۰۴_22.jpg"/>
          <p:cNvPicPr/>
          <p:nvPr/>
        </p:nvPicPr>
        <p:blipFill>
          <a:blip r:embed="rId1"/>
          <a:stretch/>
        </p:blipFill>
        <p:spPr>
          <a:xfrm>
            <a:off x="3851280" y="0"/>
            <a:ext cx="526104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" descr="E:\E\دانشکده چمران\98\ترم دوم\عناصر و جزئیات\New Doc ۲۰۲۰-۰۴-۰۴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E:\E\دانشکده چمران\98\ترم دوم\عناصر و جزئیات\New Doc ۲۰۲۰-۰۴-۰۴_24.jpg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692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E:\E\دانشکده چمران\98\ترم دوم\عناصر و جزئیات\New Doc ۲۰۲۰-۰۴-۰۴_25.jpg"/>
          <p:cNvPicPr/>
          <p:nvPr/>
        </p:nvPicPr>
        <p:blipFill>
          <a:blip r:embed="rId1"/>
          <a:stretch/>
        </p:blipFill>
        <p:spPr>
          <a:xfrm>
            <a:off x="3780000" y="11160"/>
            <a:ext cx="5332320" cy="683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E:\E\دانشکده چمران\98\ترم دوم\عناصر و جزئیات\New Doc ۲۰۲۰-۰۴-۰۴_26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31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E:\E\دانشکده چمران\98\ترم دوم\عناصر و جزئیات\New Doc ۲۰۲۰-۰۴-۰۴_27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7542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28:46Z</dcterms:modified>
  <cp:revision>636</cp:revision>
  <dc:subject/>
  <dc:title>Slide 1</dc:title>
</cp:coreProperties>
</file>