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772C-8667-428D-8EB5-3F53CC36D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2EEA-0FDB-4A34-BF5E-0BD1E502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6C36-F515-4550-875F-1102D5A72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9FA8-9A4D-4E43-B3B6-2D1CF9F2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1A02-0E6B-4BBC-A780-8C83524EF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62DA-A22A-4300-8F50-3B8AF4B7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F9D6-EB03-45F4-8BD1-B8CBC7DC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426B-48F8-4B2B-9C93-B9AFE32A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4BB5-10EB-4C2B-A18F-B13CCE16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BDE4-2FFB-4829-94ED-79FAF35C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4C4F-FD26-4440-A9E4-E12A8DA9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229C-99B5-448C-B3C3-330D6688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E010-2142-4741-B6AA-4427BC9B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DB7D-A982-4524-B7A3-5EE65ACA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350D-C78F-474D-935F-6CB3FCBF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AB3A-C317-4B22-826B-CB9756511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7FEC-B9AA-454B-833A-173E9BB40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C08F17-C646-4B72-8B9C-31FD71253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1D413F-334D-45B7-88F0-F147EC60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A097D7-9F22-456E-A37A-D3AA5C0F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DE1C06-1633-42D3-A499-62324039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7DA462-DBAD-41A9-BC9A-A62EF9C9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3DB7-AF5E-4AFB-A81E-F971EA16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7CD365-7642-4BBE-96AB-E18A6CA8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0EF189-B0D8-4784-BC27-B23A044A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F4D1EC-AC5C-47D8-B22E-E1B90080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528FC3-9767-4116-AFC9-A61A2212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B96DB2-91AE-4D9C-B762-0180978C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FE2879-108A-4B06-B2A5-0CB365201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71CA74-0328-4BC0-8A63-CAAA30433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F6DE5-28A4-43D3-9BF8-EC6B67A38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A7DD0-8855-4A77-90BB-B89841A7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1D348-184D-49F3-A2DE-106DF773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D6C7-79EB-471A-991E-DD6265EE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57993-222D-465E-878A-EB00BD68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3C4CC-1D9C-4FED-8A90-46323E84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6622B-3AA6-42E2-8D7F-3EA969B8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92C57-DFD2-4A44-9F17-7656A59B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6FF6B-C725-4C59-BFC0-BE5467B9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9ABA8-5C4C-453D-8C04-9CF68CD8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034F7-0656-40BD-A497-14ED8AAA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13F52-61E5-4714-845E-B8199875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B3721-9624-4314-B473-5CADF4109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55D8AE-8D09-4E76-8B0F-2984DDA94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6609-0819-4A60-B5BD-63C5E9BD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40F310-2EB9-4406-8006-6326AE7C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255DBC-011D-41FD-9503-EB0AA99E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89F2CD-92DC-4FB2-8812-0381159F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7F7971-1FA3-42D8-A9D3-884EA005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01A123-04E1-4667-9073-98833AA5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DC93A5-E5E9-4A3B-9547-18430B4A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3B98CA-F07D-42F9-96C3-4F9F15E9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2079A3-7418-4297-9954-727C6C2B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A0AA76-DBDB-423C-8B18-DF6FF05B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19A671-F2F6-414D-A216-703BFD349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C03B-D31C-4165-A46A-20F9D324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79F07B-4F7C-460C-B2ED-CD527AC46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9CE9CC-C550-421E-BB21-3362C4569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F0A86B-C030-46CC-91D2-AEEC5737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A416A8-F539-4EA9-9DFE-879A99D8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A73445-1407-4CCB-B33F-6CB0C819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53E6B1-662E-457A-8D49-2B57F700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D6C5EF-BF33-4B0E-BB6B-069F5146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945E94-8859-47A6-8938-79458801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52FD29-2980-4E00-8A5D-48898852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347C8F-0BC7-4A93-A4F3-A30D3EB7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AE1D-711B-438E-AAA4-28878C2A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1DDD67-FA6B-4064-BDB9-121FBEBE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9B653E-C1C5-4A96-9D43-A136EE837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43AC51-8BF4-43A5-9117-1DB0B36C3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E41F90-5F9E-40E9-920D-E2CCBFB09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710AF1-C1F3-4CB8-A6AB-AF8960ED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16AAE9-DA95-43F6-AE4E-C3C6C3C9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0B5DAF-2B78-4DDD-AC22-5E7A9FF3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5D27BD-5183-45CE-9B20-7BD53364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F09622-9372-4F0B-A8E7-9A9AB571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97C8E6-653D-49E3-8CFF-18567D86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C133-D818-41FF-BCB7-0CE16749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2ABE58-CD2D-4233-9D08-A2A95CB8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80A6C8-C27F-46CA-B802-EA39EB9B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B281EE-994C-4F92-B525-2DBA68E4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3E093D-CF54-47A6-A5C5-21F864CD2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AB1BCF-66F5-45FF-AE4C-DA78D0098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8753-9646-43DB-9B37-EC8D99ED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290E-8CB0-4CC6-909B-5A9C8CC6542E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C8FA-0C39-4473-BECB-5BF37BD52EF2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7B88-E016-413B-9A4F-68B15E03E38B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6A29-62A1-4AB2-96F6-269EF3EC6C4C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7FEC-050A-4079-A218-024606F929EE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6F6F-8291-481C-BEC9-211A1FCCA5A3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49E5-D129-4B20-A3D6-21BD6FADA0A9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Oval 21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1835280" y="2133720"/>
            <a:ext cx="6769080" cy="83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جلسه  چهارم   آموزش مجازی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عنوان درس: عناصر    و     جزئیات   ساختم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رشته: کاردانی پیوسته نقشه کشی معمار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مدرس: بهزاد آقاخان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شماره تماس جهت گروه واتس آپ:  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093732577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3995640" y="-100080"/>
            <a:ext cx="172404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46c0a"/>
                </a:solidFill>
                <a:latin typeface="Calibri"/>
                <a:cs typeface="IranNastaliq"/>
              </a:rPr>
              <a:t>به نام خد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5665680" y="754200"/>
            <a:ext cx="309744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558ed5"/>
                </a:solidFill>
                <a:latin typeface="Calibri"/>
                <a:cs typeface="IranNastaliq"/>
              </a:rPr>
              <a:t>دانشکده فنی و حرفه ای پسران چمران اهوا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C:\Users\Novin Pendar\Desktop\آرم دانشکده.JPG"/>
          <p:cNvPicPr/>
          <p:nvPr/>
        </p:nvPicPr>
        <p:blipFill>
          <a:blip r:embed="rId1"/>
          <a:stretch/>
        </p:blipFill>
        <p:spPr>
          <a:xfrm>
            <a:off x="1763640" y="620640"/>
            <a:ext cx="27720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E:\E\دانشکده چمران\98\ترم دوم\عناصر و جزئیات\New Doc ۲۰۲۰-۰۴-۰۴_21.jpg"/>
          <p:cNvPicPr/>
          <p:nvPr/>
        </p:nvPicPr>
        <p:blipFill>
          <a:blip r:embed="rId1"/>
          <a:stretch/>
        </p:blipFill>
        <p:spPr>
          <a:xfrm>
            <a:off x="3419640" y="0"/>
            <a:ext cx="5709960" cy="69422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3" descr="E:\E\دانشکده چمران\98\ترم دوم\عناصر و جزئیات\New Doc ۲۰۲۰-۰۴-۰۴_22.jpg"/>
          <p:cNvPicPr/>
          <p:nvPr/>
        </p:nvPicPr>
        <p:blipFill>
          <a:blip r:embed="rId1"/>
          <a:stretch/>
        </p:blipFill>
        <p:spPr>
          <a:xfrm>
            <a:off x="3851280" y="0"/>
            <a:ext cx="5261040" cy="690732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3" descr="E:\E\دانشکده چمران\98\ترم دوم\عناصر و جزئیات\New Doc ۲۰۲۰-۰۴-۰۴_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3" descr="E:\E\دانشکده چمران\98\ترم دوم\عناصر و جزئیات\New Doc ۲۰۲۰-۰۴-۰۴_24.jpg"/>
          <p:cNvPicPr/>
          <p:nvPr/>
        </p:nvPicPr>
        <p:blipFill>
          <a:blip r:embed="rId1"/>
          <a:stretch/>
        </p:blipFill>
        <p:spPr>
          <a:xfrm>
            <a:off x="3564000" y="0"/>
            <a:ext cx="5580000" cy="69213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E:\E\دانشکده چمران\98\ترم دوم\عناصر و جزئیات\New Doc ۲۰۲۰-۰۴-۰۴_25.jpg"/>
          <p:cNvPicPr/>
          <p:nvPr/>
        </p:nvPicPr>
        <p:blipFill>
          <a:blip r:embed="rId1"/>
          <a:stretch/>
        </p:blipFill>
        <p:spPr>
          <a:xfrm>
            <a:off x="3780000" y="11160"/>
            <a:ext cx="5332320" cy="68310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4" descr="E:\E\دانشکده چمران\98\ترم دوم\عناصر و جزئیات\New Doc ۲۰۲۰-۰۴-۰۴_26.jpg"/>
          <p:cNvPicPr/>
          <p:nvPr/>
        </p:nvPicPr>
        <p:blipFill>
          <a:blip r:embed="rId1"/>
          <a:stretch/>
        </p:blipFill>
        <p:spPr>
          <a:xfrm>
            <a:off x="3708360" y="0"/>
            <a:ext cx="5400720" cy="69310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3" descr="E:\E\دانشکده چمران\98\ترم دوم\عناصر و جزئیات\New Doc ۲۰۲۰-۰۴-۰۴_27.jpg"/>
          <p:cNvPicPr/>
          <p:nvPr/>
        </p:nvPicPr>
        <p:blipFill>
          <a:blip r:embed="rId1"/>
          <a:stretch/>
        </p:blipFill>
        <p:spPr>
          <a:xfrm>
            <a:off x="3348000" y="0"/>
            <a:ext cx="5796000" cy="75423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9:22:35Z</dcterms:created>
  <dc:creator>iman</dc:creator>
  <dc:description/>
  <dc:language>en-US</dc:language>
  <cp:lastModifiedBy>Novin Pendar</cp:lastModifiedBy>
  <dcterms:modified xsi:type="dcterms:W3CDTF">2020-04-06T15:28:46Z</dcterms:modified>
  <cp:revision>636</cp:revision>
  <dc:subject/>
  <dc:title>Slide 1</dc:title>
</cp:coreProperties>
</file>