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3CC-375A-49EB-B24F-08D2C2B1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421-E6AD-4351-BB31-B28FA353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A00-A010-4479-8A2C-3590BF30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F8E-8603-4E9C-AF1F-0084C789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19D1-8B7F-43EE-9BF1-1762D3F9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4FC6-71ED-4601-A97E-32B91BCB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A540-46ED-426C-963D-8E1920B1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053F-F2C2-40D5-BF6A-E245091D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15B1-555D-483E-8C7E-015B6AB4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9F96-DB8A-4C92-A5B9-A3284387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3616-8BC9-4900-B681-70AEDCB8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37F-5DC0-4D0B-B55E-64B2E3CD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1B4A-6D12-4DBB-8936-64960E5D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CDDD-20CB-4942-A0D7-4DDCC9B4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7303-55C6-4C95-9BD5-318B8509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2444-6D25-4B78-9242-AB1F2E98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6797-C4A0-40CF-BC12-B32B5C57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31C94-8426-43AB-84DA-0E6E239F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2A474-ADC8-4ACD-B396-57A5ED77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8197F-B2AF-4F14-929A-42E72F38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FFB33-FF28-44DA-8A9A-107CC99A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08FF6-9B5E-4D18-AB12-351D86F4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11B-F902-43FF-B501-7D896B2F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F19A0-B2D8-477C-A982-146C87C4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4BB41-9FAE-4FC9-AE8F-74C4A012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EE573-E240-4930-A2FF-EAFE680B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AE3F1-AD74-4D7F-AC59-9558B3AE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F7A0B-75EA-4402-A750-C459598A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AC820-20C5-4A3E-90B3-22DEE4C0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33371-5C1A-4477-BA58-5B8FBB5E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D25A4-F282-46A2-991E-ECE94904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AC06B-2179-47C1-BB3D-3718B728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6C07-C0CA-4517-BDD1-21A2CD79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7D2-3033-4C6F-B9C0-C1885C47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97F43-FA5D-42BA-B4AD-1FD87221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5D50-FC8C-4AC1-97DC-A13634F3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A07F4-2E5F-4B4F-BAD0-CCE65F1F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8A209-B66F-4BDC-88BB-32595DD8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C731F-6DBF-423B-83B7-CA5B0280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D5228-961C-4942-9111-C660934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2FDF1-8E9F-4CA7-B208-1F9A4FA0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D9A9B-6186-44AC-B92B-5D37007E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945D-FCE3-4140-B496-4AA4B6D2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C6AB0-4556-4C42-B21F-39E1BF75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733-A287-4EA7-8CB2-9ABAB97B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6CB73-05EF-4C5F-89C4-D01D2BA2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E895C-1E02-47CB-B8B3-0C9A8592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FF9AB-5760-450D-ABA5-90494823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E3094-C950-4C75-A4DE-A8697D2E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22ABF-EA27-4DF5-8027-8F64E7ED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7B1C9-0725-40BF-8CDD-4E69B71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B9063-B79E-4D1E-88A7-C83AAEFE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C52D9-8DA7-444B-998B-A1D6F25F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5667B-8BD2-461F-BBF6-F73945DF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6319E-9706-4DE2-9937-93F47193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718-8FE9-47EB-8E7F-254BC42D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8DC0A-3670-4AC5-B58A-B0540328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11D91-4BFD-4FC5-8460-E29195F2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AE0C13-A037-4CEB-8254-B69C4AA5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072AB-8A6C-45E6-970C-DE70CEFF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57E50-5944-4CC2-9F48-34F9E5E6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E8EF9-26A7-415B-901F-FF54D1DE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1268C-D239-4DD2-AEAC-B7D1261C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20416-AEDF-45FC-948A-EE06E368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2CDA42-BF54-4C10-83C3-0D3BFBBD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D43A5-8827-4E28-935C-8AD019AB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47C-5809-4D2F-9912-F678A88D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D0DFF-C8AA-42F1-A670-8963B911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51178-6F31-4787-B376-4F818B99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794EC-C28E-40A5-84F2-380E512D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58C96B-2FDD-4AE7-B85F-4122C427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FDA48-DAB5-42A3-9177-9146DD6D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31DF1B-515B-4B7F-8CD0-6AB34D9B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6DD80-A0B2-48C7-B52D-0CD0AD8A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96A5D-DDAC-4115-9EE3-C5E1DFA7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3818E-0CC0-4E6B-9349-A686E18D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9C4F40-1CAC-496B-BA56-F9611A54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2B9-7DB4-4D06-B655-225FABAB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CCE375-A187-4532-9C97-88B45E8E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1D86B-CE0C-4250-9356-B4F7110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93EB1-61FA-4B0F-A678-F7BDAF4C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ACF42-C29B-4E3A-A464-CD6E90F5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F60173-D9AC-48D6-948D-704A87C0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108-0576-4CD2-A84F-BE57FA77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BC43-C018-4AD2-BBD6-39BBB356C60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51E2-4426-4D0B-98C9-D375C962927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6C97-27C0-4943-966A-EF05C43FB30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AE9D-979B-4788-A874-3A737CE3918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30D4-7231-408B-B41E-378331586B7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9C8E-56E9-4D6B-B8C6-72F3D7A2DDC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B5B7-322F-4087-AC7F-D3C0420B4F3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چهارم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1.jpg"/>
          <p:cNvPicPr/>
          <p:nvPr/>
        </p:nvPicPr>
        <p:blipFill>
          <a:blip r:embed="rId1"/>
          <a:stretch/>
        </p:blipFill>
        <p:spPr>
          <a:xfrm>
            <a:off x="3419640" y="0"/>
            <a:ext cx="5709960" cy="6942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E:\E\دانشکده چمران\98\ترم دوم\عناصر و جزئیات\New Doc ۲۰۲۰-۰۴-۰۴_22.jpg"/>
          <p:cNvPicPr/>
          <p:nvPr/>
        </p:nvPicPr>
        <p:blipFill>
          <a:blip r:embed="rId1"/>
          <a:stretch/>
        </p:blipFill>
        <p:spPr>
          <a:xfrm>
            <a:off x="3851280" y="0"/>
            <a:ext cx="526104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E:\E\دانشکده چمران\98\ترم دوم\عناصر و جزئیات\New Doc ۲۰۲۰-۰۴-۰۴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E:\E\دانشکده چمران\98\ترم دوم\عناصر و جزئیات\New Doc ۲۰۲۰-۰۴-۰۴_24.jpg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921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E:\E\دانشکده چمران\98\ترم دوم\عناصر و جزئیات\New Doc ۲۰۲۰-۰۴-۰۴_25.jpg"/>
          <p:cNvPicPr/>
          <p:nvPr/>
        </p:nvPicPr>
        <p:blipFill>
          <a:blip r:embed="rId1"/>
          <a:stretch/>
        </p:blipFill>
        <p:spPr>
          <a:xfrm>
            <a:off x="3780000" y="11160"/>
            <a:ext cx="5332320" cy="6831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E:\E\دانشکده چمران\98\ترم دوم\عناصر و جزئیات\New Doc ۲۰۲۰-۰۴-۰۴_26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31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E:\E\دانشکده چمران\98\ترم دوم\عناصر و جزئیات\New Doc ۲۰۲۰-۰۴-۰۴_27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7542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28:46Z</dcterms:modified>
  <cp:revision>636</cp:revision>
  <dc:subject/>
  <dc:title>Slide 1</dc:title>
</cp:coreProperties>
</file>