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714-79D1-4323-A91F-181FDEB1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C6E-C950-4742-8CF9-CCE6371D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F5E-FBBE-48F0-9C8C-B88E2EF8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F56-4F85-4578-A03B-6201F7EB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4F84-B14F-4F04-97BB-06F77DA6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3F94-F304-4AA8-B7F8-6A3DD676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3A76-1566-464C-9412-E62A0838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EDC2-8D13-41AF-AABF-12B3BB41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0DCA-6FFE-4DD8-A2F4-E4815FF8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3272-9932-45E1-873B-B11B6CE8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BA48-7D6C-48C1-B305-49A2BF90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84F-3368-4BC5-9E81-69D421EB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2C47-299D-4F36-BE4B-0916F20A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C59F-397E-42EC-A800-59E88422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F645-53BB-4C2F-A1BE-49AB530D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917F-C19C-4AA5-8D7B-923E438F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A54E-79B4-45D9-ABCB-3560A651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A22DD-10A1-4A83-96A0-CC87A729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67980-94B1-4997-AC04-83E483EA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C4051-D320-4B17-890B-4D2431BC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2FA5D-3F96-4263-96C0-BD823792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9E634-FDF6-45A6-A237-C5A39CEC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B07-4164-44D5-8B88-F28542B0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9361C-6E3E-4ED0-ABF5-B7437385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6CBA2-1466-4653-94B5-10D5DA3E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58BB6-ECC6-446A-AE9E-A450C52C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BBBD9-43D8-4E05-97FC-7BCD653E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E9782-8DA4-4578-A69C-3F9D1C12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EA93C-9399-4B7C-BCE9-204F6FF7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49A8A-8861-4484-8F9E-87C47B78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B6A2-FD25-46CF-9D8A-E2ADB3AC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E38B0-1B18-4046-9897-243DBE3A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E4D92-08B3-42F8-AE22-6D3C81D2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CE7-93EC-4C3F-8BBC-9EF187C4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D8F23-A05E-4FD3-BE84-A39AAA00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497ED-9932-4EF2-B5CE-4EC6C631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E2861-9E79-41A8-AE6F-06709580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D9C9C-CDDE-43E5-864A-99A7397D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11CFC-079D-4A27-A1A0-9AE66420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3DADC-E494-415F-88CC-84CD6247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02F4E-4534-4675-94D2-398CCC9D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09D6F-CDF9-411C-8AD4-C5B113AB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85EA6-9D9C-40D9-80BC-BD09AFA4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365FC-1EE8-496B-A4D1-BEC51007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13A-EFB6-4E6F-8C1B-F88E5B7D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CE492-5254-451B-8AE4-D15A7CE2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38F943-22A1-444B-AB0B-EF55FF8B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1B256-A46A-44E0-A73E-66FC1CDD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D5CD9-1AF4-4577-BC56-F496ED25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5092C-6E0D-4A94-AEAF-6C9A6216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472F2-9749-4D00-91C0-C7E33C18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8E5E0B-1C56-4D33-8D5C-958BF103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FB985-8AD9-44B0-A9B9-350D088F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17FB58-5862-4029-B0C6-0109D646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65DFE-3D0B-482C-81FA-832B84DD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F78-843D-4C6A-9489-511C4D83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6E8A2-D700-4503-8A05-1F7D0A9E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78EE9B-E588-4782-8D13-B2D86819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FA3F1-3543-48BE-A6FE-9C104631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915AB-8B58-4137-AE44-E7015212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3D44A-163A-4B46-AE37-6C211347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E47594-A11B-41D5-8034-BED04470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04A9A-CAAD-4648-B178-D34C180B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0B72F-137F-4A7B-8656-9A16316F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FD9D24-2640-4B80-B180-7E33FB40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626597-439E-4EA9-ABD6-33EF665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DEDD-8344-4689-A179-F504D82C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4B2838-0AB0-47E9-8945-730B7B02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EDCDA-CD67-4078-BFC9-5EB3B152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62992-7894-4471-8887-C89AD363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3CCA58-2013-4FC9-99F0-A3DC3556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B6C14A-AA7F-4887-B81E-6A998ECB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2713E1-0434-487F-89C3-70575093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697A3E-F9EF-4971-A6E4-6DA9D1C2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E2429-3D7C-4156-BD15-704FDF1E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AB8E42-2F50-49A1-8D1F-2773F1A4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5C454-2C16-4092-AB7C-0EFF9AE6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63B-5E16-4984-838C-60B1BFE4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1C1227-BD88-4B44-A3B9-E10EB7C3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353F79-C809-421B-B5D0-CE7A92A0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A8C15-E525-4B5A-AED3-0E18FD44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A5520C-CCAA-482A-8C6B-743836C2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ED289-57B7-44A6-B567-07F6D32D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1F5-7F3A-411D-B9F1-984203E7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1358-0BAA-48D1-8042-DD81960FE8D6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EA68-C218-45DB-961C-7EAA1D0AC61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2655-6531-408F-A2BB-7F6C28881A0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3643-9860-4C63-B33B-5E35CF47DC6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AF3B-C54E-4AE6-9ADE-6C91EC3C121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C6CB-4C0E-44C0-83D0-A36860337A1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F357-C1FF-442A-A577-D4BEA74A8DF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سوم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15.jpg"/>
          <p:cNvPicPr/>
          <p:nvPr/>
        </p:nvPicPr>
        <p:blipFill>
          <a:blip r:embed="rId1"/>
          <a:stretch/>
        </p:blipFill>
        <p:spPr>
          <a:xfrm>
            <a:off x="3492360" y="0"/>
            <a:ext cx="56451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16.jpg"/>
          <p:cNvPicPr/>
          <p:nvPr/>
        </p:nvPicPr>
        <p:blipFill>
          <a:blip r:embed="rId1"/>
          <a:stretch/>
        </p:blipFill>
        <p:spPr>
          <a:xfrm>
            <a:off x="3492360" y="15840"/>
            <a:ext cx="5651640" cy="6811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17.jpg"/>
          <p:cNvPicPr/>
          <p:nvPr/>
        </p:nvPicPr>
        <p:blipFill>
          <a:blip r:embed="rId1"/>
          <a:stretch/>
        </p:blipFill>
        <p:spPr>
          <a:xfrm>
            <a:off x="3780000" y="15840"/>
            <a:ext cx="5364000" cy="6865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18.jpg"/>
          <p:cNvPicPr/>
          <p:nvPr/>
        </p:nvPicPr>
        <p:blipFill>
          <a:blip r:embed="rId1"/>
          <a:stretch/>
        </p:blipFill>
        <p:spPr>
          <a:xfrm>
            <a:off x="3492360" y="7920"/>
            <a:ext cx="5437440" cy="69357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19.jpg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E:\E\دانشکده چمران\98\ترم دوم\عناصر و جزئیات\New Doc ۲۰۲۰-۰۴-۰۴_20.jpg"/>
          <p:cNvPicPr/>
          <p:nvPr/>
        </p:nvPicPr>
        <p:blipFill>
          <a:blip r:embed="rId1"/>
          <a:stretch/>
        </p:blipFill>
        <p:spPr>
          <a:xfrm>
            <a:off x="3276720" y="0"/>
            <a:ext cx="5753160" cy="68961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9:09:07Z</dcterms:modified>
  <cp:revision>633</cp:revision>
  <dc:subject/>
  <dc:title>Slide 1</dc:title>
</cp:coreProperties>
</file>