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B69-5E89-43E2-84AB-6E144576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C18-A514-44C1-972B-E5DE66D8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DD1-70DB-4359-9BD7-A2B8200D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CE0-D29D-4BB4-B6E1-8B380BAE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5483-08FB-4F86-97D1-BB62D17D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A14A-3A8E-4A1E-8DF0-850D6DD6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D4E3-898C-438F-810B-8FD4076F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B829-27B6-43C3-8E35-EA0B24FC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E730-7B49-4196-BD53-241AB228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CBF7-C823-45EA-8B33-3368745F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644A-FAC7-4942-AD5E-059C471F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C15-38FA-4852-9F23-E31FC175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4F36-DD98-4316-8638-CA1D7018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18DA-F8D0-45E9-8193-BA1FC59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4CE1-A96A-46F8-B600-38DADAB7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BECD-3712-4714-8FD8-15DFACC7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8518-1AF2-4A8C-9D16-1D22AE6A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7BCD8-65AE-4694-8DFC-06D6C9C4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5A605-BAA8-4FF3-923E-DF491AA9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363DD-DFF2-4C07-A3B2-DC80C972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35A3C-FDA2-4B8E-94B1-DD2A0901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39D9A-75B2-4B5F-95EA-D96B6E1B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A8D-2F2C-445E-B49B-9F398BE7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E2F37-7F77-4FBB-9FE7-AFB53667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A6402-0406-49CA-84E1-560D8FF8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490C5-4ACE-46CC-B513-D8079373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ECEAC-B833-4AEE-BD0B-D327B048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7A55B-5308-452A-AB0E-07FC3085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49941-4EF5-4484-B8D7-677023E8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4EED0-B4EC-45F5-8EDE-F5A3A60E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46144-6AA4-455A-87F1-4F900405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6219E-17DE-44AE-B650-A6093383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44B8-9B75-4915-8E33-8046A002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39F-F004-4F68-8F52-F48BEE1A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9889D-BBF7-4D4B-BDCA-3E047B8B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33787-36E0-4031-9EEC-C8956A8E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F67F-2D00-4386-8960-77410CF1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D5BD3-529C-4F7A-88CB-E524DAB8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FB7C-AB9A-4A0B-B9D1-9EAD2F22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F8DE1-6258-47B2-8DD9-2C27F0F3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6BA5-74CD-4026-9CC0-4F3720F5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30DF-B66C-4805-8C30-AE1AECAE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A6733-0103-437D-902A-FA3D92E1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9ACCD-3732-4FAE-9436-CAB6CE5E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A03-7153-4A70-AFF7-483EC7CF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C6858-27F4-467C-9BE0-7866AC4B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3B2EE-768D-4E6B-ABA2-896FE8E5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1E11A-0630-4052-B390-730789EA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45A79-4E15-4E2B-B32E-A6D304FB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57816-A9DE-4BF5-BA91-E7C4036B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980EA-0676-4BA6-81E5-6048375A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81044-EC58-4EC9-8245-A9A6E666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1AD91-8830-4B37-B632-5D6F1AD4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BE89A-E548-4B8D-BA09-60A51418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88EE5-0648-4AEE-97DC-55CF960B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AE1-6D48-43FD-9E86-D4A08CCD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19D5A-D266-41D5-90C8-9A20D094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DD006-E451-4D3E-98CF-FC9BC605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54AC6-F57C-4FB9-90AD-77F3A179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3EE1E-8CB7-4C0E-81D5-56B73453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B4FF2-AD07-4623-9C44-88C73561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0470AF-08A7-48F0-AE66-B2C9D63B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6AC21-1D62-4EBD-BB8F-0479FA48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5391E-6B36-41E9-9EE9-2296768E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0FB0F-FFC5-487A-8FBE-50AEC97B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FF68AE-2CFB-48CC-88D9-DCBE6C1C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E36-3921-437E-997F-77D57EFD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C47C8-C899-41C7-8934-6CDCDCED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9D209-9215-402E-A659-B0ADE8F2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2FD38-7B5E-4B0C-BB7E-B80FD608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C5D9A-B17D-49B5-80B0-39CB085D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80EB5-9282-41CC-BEE8-3D735EB9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FF418-1C49-44A3-998A-E233C7E5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19616-7CE5-4036-B4EE-8A676686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6936E-E5E2-47B5-BF22-2262EB36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06FFA-5452-4899-9128-35D91F2A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A8B79-8337-4EC8-99AE-A50B5607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296-128C-4471-B6A6-A3CEB71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704B43-A130-4ACD-934B-4C337BF3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F9A16-8BD2-41FA-9413-947931C6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96F1B2-8A01-49D4-B638-069036CF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BD8DC-F98E-463B-9953-694908A7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D345F-BCBD-4EEF-AB6E-BE8B8E89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329-7AA9-4A18-AB2D-FDEF2F3E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7441-B4A4-4805-B659-87403378EA4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FDDD-9045-49F3-9D50-2EB3BE109A3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A69F-1E31-4C1D-8018-1B447FDD056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370E-4A2D-47FD-9FA0-691538C9500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ED69-F0E3-4E1A-B3DD-004F2020758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7809-5AC6-459F-9D23-568C60B9ABA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A8D2-C72B-4762-8E44-7FEC47CBBA5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سوم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15.jpg"/>
          <p:cNvPicPr/>
          <p:nvPr/>
        </p:nvPicPr>
        <p:blipFill>
          <a:blip r:embed="rId1"/>
          <a:stretch/>
        </p:blipFill>
        <p:spPr>
          <a:xfrm>
            <a:off x="3492360" y="0"/>
            <a:ext cx="5645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16.jpg"/>
          <p:cNvPicPr/>
          <p:nvPr/>
        </p:nvPicPr>
        <p:blipFill>
          <a:blip r:embed="rId1"/>
          <a:stretch/>
        </p:blipFill>
        <p:spPr>
          <a:xfrm>
            <a:off x="3492360" y="15840"/>
            <a:ext cx="5651640" cy="6811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7.jpg"/>
          <p:cNvPicPr/>
          <p:nvPr/>
        </p:nvPicPr>
        <p:blipFill>
          <a:blip r:embed="rId1"/>
          <a:stretch/>
        </p:blipFill>
        <p:spPr>
          <a:xfrm>
            <a:off x="3780000" y="15840"/>
            <a:ext cx="5364000" cy="6865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8.jpg"/>
          <p:cNvPicPr/>
          <p:nvPr/>
        </p:nvPicPr>
        <p:blipFill>
          <a:blip r:embed="rId1"/>
          <a:stretch/>
        </p:blipFill>
        <p:spPr>
          <a:xfrm>
            <a:off x="3492360" y="7920"/>
            <a:ext cx="5437440" cy="69357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9.jpg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20.jpg"/>
          <p:cNvPicPr/>
          <p:nvPr/>
        </p:nvPicPr>
        <p:blipFill>
          <a:blip r:embed="rId1"/>
          <a:stretch/>
        </p:blipFill>
        <p:spPr>
          <a:xfrm>
            <a:off x="3276720" y="0"/>
            <a:ext cx="5753160" cy="6896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9:09:07Z</dcterms:modified>
  <cp:revision>633</cp:revision>
  <dc:subject/>
  <dc:title>Slide 1</dc:title>
</cp:coreProperties>
</file>