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89CB-1D20-4117-997F-C97015D6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A61B-385F-42A5-9A69-DFC9F69D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A573-3320-458E-B382-57344550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5DCA-0A75-4D3E-8FF4-9E18580A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C9C4-EFA6-4CEF-9042-50D60340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4A0E-207E-4D41-A20B-E26F9F16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7402-8628-483E-8D61-EAB5992E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F1D2-BBA3-4225-9EE0-C3712D95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D96D-C2CA-4119-83F6-A4F041AF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249E-E486-40F8-9EBB-5F02E2BD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91C1-CB00-46E8-9912-BF1F5645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FC3B-00D8-4784-A9C9-EA490973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7992-9DAC-4579-B46E-BBE92F47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F3E7-FC65-4216-B992-2457B77A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86E4-34CD-4A6D-88DE-3561DBFE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B292-24D0-4DEC-A6B1-516CE36F9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B102-2C3C-4969-A574-55904101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76EFA-F795-411B-BD1E-A27FF721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AC25BD-0E1C-418C-A589-57E83EDC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BDC3CC-246A-4601-B310-102C151F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CEC5B5-F963-4598-AF17-9AD797BC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A8025-A7D4-487A-897C-12DD636C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2DB6-CD48-41C4-BC49-0C3E97B6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EECC18-8451-4CBC-9373-845610FD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F1EAD-0F42-4B98-A738-B10A82EE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E7B1E0-A91B-47DE-A8F2-39A5E70D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4C3D8-1C77-4526-A6A7-47FF0BBB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79EE50-B904-44D3-8B87-96D90EC6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3AC3B5-1830-4D84-A60D-78333EF2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14D87C-5C26-475E-8D15-BAB691EF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BA13A-E7C3-403E-8833-F929F4FE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AD84C-AEB2-419E-8D10-0E42D086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0D69D-786A-4456-A8D3-CA6295FF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28B6-6BE8-477A-B2C6-2F8E2072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25475-DCE2-4A8B-A13D-365ACDCA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91E60-8AC9-440F-98C0-1733FB58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33160-0110-4739-A8FB-9EE258FA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F27B0-7E74-472E-9109-ED61244D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ADD91-9DF7-4A11-843B-05F6ED28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8A3F3-F3D2-4A28-ABF2-B0978288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D8DC6-6C2E-4194-85CC-36B260C7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23551-1549-4995-B61F-718A17D0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56293-AFD4-46B5-A8AC-661FE5A2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CAFAC2-CEED-42CF-8693-ABCC900B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B0E8-C27B-4F15-B500-75CA6519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CC0654-66BD-466A-AF05-DDFC5F8B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91C344-3707-40B2-B438-7A257B86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B828EF-8903-43DB-844E-B1112FAA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F95CAA-C466-409D-A95E-EA0226BF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FEC35F-426A-4AF3-B040-0BF1C3B9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33FFED-BA5D-47BC-8A01-49B84EC8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AF50D6-6CFF-415D-A7BA-DBB0AAAF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419EE7-5ACE-4210-8F53-827331EF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E78048-F15C-4CEE-8DF1-55197BF5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5EF56B-D718-43DB-A5B0-E2FC5FB6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6B80-7FFC-4774-9614-F99EE912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8741D2-9A60-439D-8ED3-33AAA55D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B6A808-B0C1-419E-9C28-6CDB2006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C83449-1DA0-4752-89D3-C1A349C2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EF9562-4311-4D14-B9C5-8DA94DF8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60342F-BF3E-41A6-A7CC-C2333AE8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D1B466-5AD3-4E06-9F88-E23338B4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AE1ADD-EE68-4B12-A570-1229383F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E5F5FE-7DE3-436C-AB67-3A59E6AF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ED79DF-7D41-44AD-8A41-B184EEF7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BB7A53-DC15-46AB-A429-3A186FDC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EFC8-77ED-4BFB-AB1B-9C6A81DC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C65E19-500C-40CA-9E83-D2C4EAA3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A8EF55-0765-4CCA-9BC1-9A8392D0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0D95A3-C755-47F1-9572-07AE80D5A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0D6A2F-BEC2-476A-95B4-A6A5013F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EF2061-FC12-4A3C-A0CE-B1B976F1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4B0332-2881-432A-BD8B-081B2E60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A1C4F0-FC10-4DF4-B4CD-B76E5EC5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FDD9A1-4336-4742-AA44-CE0E2B76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1DFAAA-B617-4014-9078-69EFD93C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B269B0-8C07-479F-BC05-80A726D3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B009-2562-4A68-A0E0-3EAD1003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5C7645-40E1-4A0F-93EA-FBC6EA4F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D1C84B-63C8-4D36-BC40-C1EF1A85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E667B5-1CD7-42AC-A478-2853F46A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110110-42D6-4D07-AA7D-0C2B10D6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B8134C-7C97-418A-9A6B-8E4E3CB4F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AE1E-E811-420D-9AEB-4BD9C088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E16A-8B4C-439B-A43F-03031A6679D0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3C72-2C89-4CE5-9152-35F8AD5087BE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DBFC-3C15-4A88-8173-B8CC69FE5B6F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146C-767C-4F94-88A4-160E97678551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D557-230B-4F61-9842-FCDA24BE7B87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89C8-3168-4DDD-9809-CA5966F63F3D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51F4-4EBA-434C-8FA5-91C84C0A8316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9"/>
          <p:cNvSpPr/>
          <p:nvPr/>
        </p:nvSpPr>
        <p:spPr>
          <a:xfrm>
            <a:off x="3995640" y="-100080"/>
            <a:ext cx="17240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1835280" y="2133720"/>
            <a:ext cx="6769080" cy="75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دوم آموزش مجازی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رشته: کاردانی پیوسته نقشه کشی مع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5665680" y="754200"/>
            <a:ext cx="3097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558ed5"/>
                </a:solidFill>
                <a:latin typeface="Calibri"/>
                <a:cs typeface="IranNastaliq"/>
              </a:rPr>
              <a:t>دانشکده فنی و حرفه ای پسران چمران اهو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C:\Users\Novin Pendar\Desktop\آرم دانشکده.JPG"/>
          <p:cNvPicPr/>
          <p:nvPr/>
        </p:nvPicPr>
        <p:blipFill>
          <a:blip r:embed="rId1"/>
          <a:stretch/>
        </p:blipFill>
        <p:spPr>
          <a:xfrm>
            <a:off x="1763640" y="620640"/>
            <a:ext cx="2772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E:\E\دانشکده چمران\98\ترم دوم\عناصر و جزئیات\New Doc ۲۰۲۰-۰۴-۰۴_8.jpg"/>
          <p:cNvPicPr/>
          <p:nvPr/>
        </p:nvPicPr>
        <p:blipFill>
          <a:blip r:embed="rId1"/>
          <a:stretch/>
        </p:blipFill>
        <p:spPr>
          <a:xfrm>
            <a:off x="3708360" y="0"/>
            <a:ext cx="5400720" cy="6900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E:\E\دانشکده چمران\98\ترم دوم\عناصر و جزئیات\New Doc ۲۰۲۰-۰۴-۰۴_9.jpg"/>
          <p:cNvPicPr/>
          <p:nvPr/>
        </p:nvPicPr>
        <p:blipFill>
          <a:blip r:embed="rId1"/>
          <a:stretch/>
        </p:blipFill>
        <p:spPr>
          <a:xfrm>
            <a:off x="3780000" y="0"/>
            <a:ext cx="5335560" cy="69454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E:\E\دانشکده چمران\98\ترم دوم\عناصر و جزئیات\New Doc ۲۰۲۰-۰۴-۰۴_10.jpg"/>
          <p:cNvPicPr/>
          <p:nvPr/>
        </p:nvPicPr>
        <p:blipFill>
          <a:blip r:embed="rId1"/>
          <a:stretch/>
        </p:blipFill>
        <p:spPr>
          <a:xfrm>
            <a:off x="3708360" y="0"/>
            <a:ext cx="5435640" cy="6966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E:\E\دانشکده چمران\98\ترم دوم\عناصر و جزئیات\New Doc ۲۰۲۰-۰۴-۰۴_11.jpg"/>
          <p:cNvPicPr/>
          <p:nvPr/>
        </p:nvPicPr>
        <p:blipFill>
          <a:blip r:embed="rId1"/>
          <a:stretch/>
        </p:blipFill>
        <p:spPr>
          <a:xfrm>
            <a:off x="3780000" y="11160"/>
            <a:ext cx="5359320" cy="69642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E:\E\دانشکده چمران\98\ترم دوم\عناصر و جزئیات\New Doc ۲۰۲۰-۰۴-۰۴_12.jpg"/>
          <p:cNvPicPr/>
          <p:nvPr/>
        </p:nvPicPr>
        <p:blipFill>
          <a:blip r:embed="rId1"/>
          <a:stretch/>
        </p:blipFill>
        <p:spPr>
          <a:xfrm>
            <a:off x="4140360" y="0"/>
            <a:ext cx="4846320" cy="68626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E:\E\دانشکده چمران\98\ترم دوم\عناصر و جزئیات\New Doc ۲۰۲۰-۰۴-۰۴_13.jpg"/>
          <p:cNvPicPr/>
          <p:nvPr/>
        </p:nvPicPr>
        <p:blipFill>
          <a:blip r:embed="rId1"/>
          <a:stretch/>
        </p:blipFill>
        <p:spPr>
          <a:xfrm>
            <a:off x="3564000" y="0"/>
            <a:ext cx="5562360" cy="68565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E:\E\دانشکده چمران\98\ترم دوم\عناصر و جزئیات\New Doc ۲۰۲۰-۰۴-۰۴_14.jpg"/>
          <p:cNvPicPr/>
          <p:nvPr/>
        </p:nvPicPr>
        <p:blipFill>
          <a:blip r:embed="rId1"/>
          <a:stretch/>
        </p:blipFill>
        <p:spPr>
          <a:xfrm>
            <a:off x="3780000" y="20520"/>
            <a:ext cx="5364000" cy="68677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5T18:52:24Z</dcterms:modified>
  <cp:revision>635</cp:revision>
  <dc:subject/>
  <dc:title>Slide 1</dc:title>
</cp:coreProperties>
</file>