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9F0C-7D50-4332-BFBF-E4EA67A1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D53E-27A4-4415-AE7F-E6337E2E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EB4D-A436-4D73-A01A-7E0F4D14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DFDD-0820-46D9-BDE2-8D224D61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7B83-F622-4D7C-9F5C-75017186E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5B74-1F74-41E8-B39A-AE4EA392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71EF-5C90-472F-B44C-6B5EC46E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833D-1395-4046-94AA-80C1A63A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C31A-DBDE-4ED7-BC49-D932B6E6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2BD9-2B23-4A24-A0F0-A24A9666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67E9-EF77-42C5-A759-9304F9CA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1DDC-C10A-452A-84F3-2A37445E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55AB-F704-41BD-A96B-30190C9B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D32B-91FF-4254-BE84-1C1B7FA0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19B4-4620-4776-9074-F1BB8E68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F451-0DD5-4FEA-B94C-A983944F6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3C9F-B0E5-4AD3-9252-1197AB01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583757-A20A-4B7D-94B2-3D80940AF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2A8299-18CB-4B30-A1B4-6250F07A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8BA85E-E5D1-494E-8328-9FE03029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7350AB-4753-42FE-98D5-9BBEFFC9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A4A55E-9E0D-4CFC-AEEE-BA667C2E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27B3-8D2A-461B-ABF3-0F60E6F3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E3F171-422E-42FC-921F-705AFD9D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CFA103-DEDF-4708-A4E4-1FC71712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F8873A-6DF6-49FB-9F87-2A26528E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8E7CBC-2FAA-450A-B0A2-05E05513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FF80C7-8485-4BD6-B3C9-D67F9E56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D06106-3F04-4F08-9867-3628AC1AE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2C579F-61A5-489D-8F33-E8AE6DE3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67A5F-B92F-4961-8378-DEAD765FF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59974-B596-4CC5-85EE-DCCB9356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6D490-F23F-4EC8-BA65-016A5B25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EB22-3D2A-42A4-8B2E-102F7076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E8EAE-A9FF-4C2D-AEC1-73DC3E57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CB25F-C3A8-4FC1-8E45-55A36214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9ADA0-6A30-463A-9877-46190E3B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70D68-B26C-481E-808A-4F10B003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F7195-B1D3-42A3-814B-8F62DEB2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82A6A-8B0D-4990-8276-9F6CFC27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0251C-82DC-4513-86E1-77509863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9B2DC-4D39-4C06-B181-6EEB83881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A80DD-3D50-4BCD-9337-0BE9CBFC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D92F65-51E3-4F07-982E-151530816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1DEA-CBF7-4491-B872-2FF3ACD3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92FA21-C1DA-4D91-92B2-DD363A21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CF9050-25A7-4641-8617-BA4315BA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0680E1-8615-4C8E-8DF0-2DA8B5B3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9D88E6-FDE2-4D10-90D5-A4B7DA96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CFD046-8BEF-49AE-B77C-7DFE4690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605CD2-3D08-43DA-999C-DFE9E0E8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59B989-967E-442B-8879-D1F3B2F6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485DD5-735B-4154-9733-288DAB16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402007-F2B2-4AD4-ACBE-1652DB66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FB1AE4-4A84-42B0-B88E-C503090C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BF6B-25D6-46C3-BA29-80A090A9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BB9264-B133-48C0-9EE4-4C172B6AB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CD5B6C-D5C3-48BE-86F7-58A8EED6D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29D52E-FFFC-4579-B291-6D6E3299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E8D4C1-963D-42CC-88B4-8504E8A8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37E7FE-CF48-497D-A129-71BA922A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FE0CE9-4049-4417-B391-14F81097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7C0D7E-9AF0-4233-8F1C-16F5BDE3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82DE08-B4BD-43BB-A6BB-CE0FF3DA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DC9B4B-3315-4F79-AEF2-0A1BB97D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D57695-CC29-4B27-A8BA-63230363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C07B-31AB-495B-9922-CE2659A0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37AEB5-4C3F-42D9-BE01-D6C6A45C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784F1A-E512-48CA-90E0-BD2DB8EC2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3E821C-3CCB-4FB8-A628-2B7380D48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4787E8-CDDE-4BAF-AFE0-749F1B6C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0A6732-252B-4714-827C-A4EC6CB6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CCB076-50F1-4337-8EF0-A63C871F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059314-6F33-4C63-9650-9A5F88F3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CAB009-2D97-4769-A804-E883E7D7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914F6F-DD12-424A-918E-1ECEE04E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F3E071-910E-40A5-9E88-D40660E5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479D-5E12-40EE-9DEA-503B5BCF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3E301B-75AC-4139-A2B3-39BFC267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B50605-9B88-435C-B8ED-182ACF9B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26737C-0AA3-426B-AFAD-FDABEEB0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46C9A4-5A57-4714-9995-EFBA9200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C2B6C6-6786-48BA-96D4-0C2A9D6C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E30E-955A-4BE3-AFBD-E532D68C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C49D-F551-4E40-AF0A-B72BFBE316EC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8071-773B-4C70-B275-0D33E0411654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4907-9CBE-487A-BDB4-2C4297628CEC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30E1-72C1-4C9F-9B12-1C90EEA9E20F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5C58-130F-476F-AFE1-DE7B2A512C26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4695-7648-4B87-84A2-933D23D97293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B38C-9F1A-4DDE-B96C-3DDBFE13569B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9"/>
          <p:cNvSpPr/>
          <p:nvPr/>
        </p:nvSpPr>
        <p:spPr>
          <a:xfrm>
            <a:off x="3995640" y="-100080"/>
            <a:ext cx="172404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46c0a"/>
                </a:solidFill>
                <a:latin typeface="Calibri"/>
                <a:cs typeface="IranNastaliq"/>
              </a:rPr>
              <a:t>به نام خد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21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1835280" y="2133720"/>
            <a:ext cx="6769080" cy="75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جلسه دوم آموزش مجازی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عنوان درس: عناصر    و     جزئیات   ساختم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رشته: کاردانی پیوسته نقشه کشی معمار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مدرس: بهزاد آقاخان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شماره تماس جهت گروه واتس آپ:  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093732577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5665680" y="754200"/>
            <a:ext cx="309744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558ed5"/>
                </a:solidFill>
                <a:latin typeface="Calibri"/>
                <a:cs typeface="IranNastaliq"/>
              </a:rPr>
              <a:t>دانشکده فنی و حرفه ای پسران چمران اهوا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C:\Users\Novin Pendar\Desktop\آرم دانشکده.JPG"/>
          <p:cNvPicPr/>
          <p:nvPr/>
        </p:nvPicPr>
        <p:blipFill>
          <a:blip r:embed="rId1"/>
          <a:stretch/>
        </p:blipFill>
        <p:spPr>
          <a:xfrm>
            <a:off x="1763640" y="620640"/>
            <a:ext cx="27720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E:\E\دانشکده چمران\98\ترم دوم\عناصر و جزئیات\New Doc ۲۰۲۰-۰۴-۰۴_8.jpg"/>
          <p:cNvPicPr/>
          <p:nvPr/>
        </p:nvPicPr>
        <p:blipFill>
          <a:blip r:embed="rId1"/>
          <a:stretch/>
        </p:blipFill>
        <p:spPr>
          <a:xfrm>
            <a:off x="3708360" y="0"/>
            <a:ext cx="5400720" cy="69008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E:\E\دانشکده چمران\98\ترم دوم\عناصر و جزئیات\New Doc ۲۰۲۰-۰۴-۰۴_9.jpg"/>
          <p:cNvPicPr/>
          <p:nvPr/>
        </p:nvPicPr>
        <p:blipFill>
          <a:blip r:embed="rId1"/>
          <a:stretch/>
        </p:blipFill>
        <p:spPr>
          <a:xfrm>
            <a:off x="3780000" y="0"/>
            <a:ext cx="5335560" cy="69454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E:\E\دانشکده چمران\98\ترم دوم\عناصر و جزئیات\New Doc ۲۰۲۰-۰۴-۰۴_10.jpg"/>
          <p:cNvPicPr/>
          <p:nvPr/>
        </p:nvPicPr>
        <p:blipFill>
          <a:blip r:embed="rId1"/>
          <a:stretch/>
        </p:blipFill>
        <p:spPr>
          <a:xfrm>
            <a:off x="3708360" y="0"/>
            <a:ext cx="5435640" cy="69660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E:\E\دانشکده چمران\98\ترم دوم\عناصر و جزئیات\New Doc ۲۰۲۰-۰۴-۰۴_11.jpg"/>
          <p:cNvPicPr/>
          <p:nvPr/>
        </p:nvPicPr>
        <p:blipFill>
          <a:blip r:embed="rId1"/>
          <a:stretch/>
        </p:blipFill>
        <p:spPr>
          <a:xfrm>
            <a:off x="3780000" y="11160"/>
            <a:ext cx="5359320" cy="69642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E:\E\دانشکده چمران\98\ترم دوم\عناصر و جزئیات\New Doc ۲۰۲۰-۰۴-۰۴_12.jpg"/>
          <p:cNvPicPr/>
          <p:nvPr/>
        </p:nvPicPr>
        <p:blipFill>
          <a:blip r:embed="rId1"/>
          <a:stretch/>
        </p:blipFill>
        <p:spPr>
          <a:xfrm>
            <a:off x="4140360" y="0"/>
            <a:ext cx="4846320" cy="68626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E:\E\دانشکده چمران\98\ترم دوم\عناصر و جزئیات\New Doc ۲۰۲۰-۰۴-۰۴_13.jpg"/>
          <p:cNvPicPr/>
          <p:nvPr/>
        </p:nvPicPr>
        <p:blipFill>
          <a:blip r:embed="rId1"/>
          <a:stretch/>
        </p:blipFill>
        <p:spPr>
          <a:xfrm>
            <a:off x="3564000" y="0"/>
            <a:ext cx="5562360" cy="68565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" descr="E:\E\دانشکده چمران\98\ترم دوم\عناصر و جزئیات\New Doc ۲۰۲۰-۰۴-۰۴_14.jpg"/>
          <p:cNvPicPr/>
          <p:nvPr/>
        </p:nvPicPr>
        <p:blipFill>
          <a:blip r:embed="rId1"/>
          <a:stretch/>
        </p:blipFill>
        <p:spPr>
          <a:xfrm>
            <a:off x="3780000" y="20520"/>
            <a:ext cx="5364000" cy="68677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9:22:35Z</dcterms:created>
  <dc:creator>iman</dc:creator>
  <dc:description/>
  <dc:language>en-US</dc:language>
  <cp:lastModifiedBy>Novin Pendar</cp:lastModifiedBy>
  <dcterms:modified xsi:type="dcterms:W3CDTF">2020-04-05T18:52:24Z</dcterms:modified>
  <cp:revision>635</cp:revision>
  <dc:subject/>
  <dc:title>Slide 1</dc:title>
</cp:coreProperties>
</file>