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40B0-E85A-45E5-9D6F-7279B305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B327-C679-459A-8D9B-A5D1D5BB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E854-18CF-4119-A14E-FD1D11B6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9D69-DF2E-4E26-923C-EC3B6827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42A6-882D-448C-81DC-DBBB56B8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66B6-93D7-4F94-ADF6-84658919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6151-3CFE-4219-9B58-A91E39FE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50F1-9D14-4372-B972-387A6D32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E16B-F975-43F7-9D8E-A19F7163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4760-39B9-4A74-BC64-1B27D116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BA33-0E63-4CB1-94BD-4A317D61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328-A1E1-4CA0-B449-815FEE61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F645-A414-46FD-B329-D5EDB021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FCE1-F416-4D9E-BE97-5681D89C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24C0-65E3-4DD3-9A32-E3F93C4D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3A2B-56DB-460A-A9AE-6D517651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4410-C9C6-4217-A37E-F51D88BE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BC50B-33AE-46B9-9271-48E7E9A9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89AD3-78E4-4BC7-AA66-2CB8B373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F27161-B74A-4260-9057-F2DFA676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DF9886-C2E1-4F24-9FC6-D905856A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104F4A-F2FA-4F59-B1FA-F56F307F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38EC-769B-4BBB-B06A-88C8B921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4BAE6F-D38B-40C6-BD5D-2E32BDD8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310B83-8F7D-41A4-AD01-DB314963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298780-87ED-47DA-882B-B72C5C1A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3DB622-732F-4AA1-BC51-93B278F7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194C73-D0DE-4E48-B6A0-E37CA188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3AD23-0967-4F6D-B38A-E56EDE20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21279-9F7D-4104-94F0-BDD3DB57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41326-D9DB-4F7A-85B0-D210D0EB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258A1-70F7-4A4C-B999-2B2CCB55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94D05-2177-4A93-AF2A-A7DC88B9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8AB3-BE43-4106-A9C4-FD4FB1B1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AB7AD-0330-41C1-9250-EB3D3353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98D68-0A68-4398-AEA2-3BDB781C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AE3FB-EDBB-4F1F-8FC7-881F9D8F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38737-979D-485F-B6F8-9E325F10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968CA-2B23-4755-85E8-0F54B3BB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C9460-056B-4D35-A8C2-E9393D55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2D7F6-E1A1-4717-9AB9-EA150866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19553-0CCE-487E-A9FD-3A11BF0B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519D7-BAAD-4435-A0EB-942B9571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47A0B1-8787-48F3-ABAA-92EE69B7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16EB-770A-4A8B-865C-FDCA1FBC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01060D-A50E-49D1-BC9C-DE2FB089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CC99D3-9BC5-43AA-B9A8-F8B29A1B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823A81-FDFB-4A2D-8096-49328C3E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3A9842-3CAF-44BF-8ACE-4FA1ECDA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B1B5EA-1A18-4022-9CAD-21D75639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5AA3F6-4E73-43CB-8902-4CEE2A6C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DF9277-2686-4D7A-9348-D4D07775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A73562-8A5F-4E86-8CDD-A4C4F11D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FB2453-9A70-4217-98EF-2F0C88D5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F75E10-A848-4411-9945-8DA575BF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8EEB-51A9-4FD9-8F5D-C135FE29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B20864-BCAC-4819-B35B-0B1B5362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DDB796-1117-419E-9077-98CA236ED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200D52-1444-4D4D-9E2C-68BFA30C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F73105-B832-4125-A93E-45674728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F5DA96-5F4D-447C-AE53-344D1040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62B22D-AC80-4944-AD06-F1934FCC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5CA6E2-EA77-4786-A199-FF16A121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15F600-E08F-4FB6-A49E-8476BD4F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6F6CF4-7F76-418C-B8F8-3201C000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CDF83E-B55A-40F8-94C4-CA12DACA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76F8-5080-47B3-B838-23E89008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F16D08-9813-419D-9F6F-9984DC06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5FB744-25AD-4C70-B162-3CDDF31E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195A36-1D52-48A8-B502-29C637A1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712C89-D3A9-4252-BB01-F056B990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F93D28-2C06-4D3B-8364-5E85D0B9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1694C7-8FD4-4FBB-9F1F-A20E59F3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0FD0CD-02D8-4318-89E0-B722F20A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56F69A-E48B-4F7A-A715-D6F8EF8F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D22870-923C-4CC3-BB39-8107195E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A59287-D9A0-4F29-96E8-2B94E399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973F-6CDA-472E-A452-2C09E308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CA6D76-6928-4B3D-A6D6-CCEDE94C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E34E53-862F-41A3-A6C2-A90C1432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2D35AE-D143-461D-B95A-A21A65CF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4F21DA-EB52-4DE1-A335-F1266C50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924EA1-D674-429E-858E-B76102B9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0899-39E7-4183-A2EA-B15E8A08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CDF3-48BF-4060-9B26-9B4AAD86CBC6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DFC7-0B8B-427A-8648-CF103C0FF0F4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DFFF-3C02-407C-A16A-6DF211CB6C74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E718-2312-448B-B59D-4F21200BCC7B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8F59-B875-4D61-A4EE-781D0702395E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C4AF-501E-4408-87DE-FC43318A0DC1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435D-AB9E-4FCD-8F63-BD19B0B401F7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1835280" y="1341360"/>
            <a:ext cx="6769080" cy="89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اول آموزش مجازی</a:t>
            </a:r>
            <a:r>
              <a:rPr b="0" lang="fa-IR" sz="5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5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9"/>
          <p:cNvSpPr/>
          <p:nvPr/>
        </p:nvSpPr>
        <p:spPr>
          <a:xfrm>
            <a:off x="3995640" y="115920"/>
            <a:ext cx="172404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8"/>
          <p:cNvSpPr/>
          <p:nvPr/>
        </p:nvSpPr>
        <p:spPr>
          <a:xfrm>
            <a:off x="2771640" y="-68400"/>
            <a:ext cx="59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558ed5"/>
                </a:solidFill>
                <a:latin typeface="Arial"/>
                <a:cs typeface="B Nazanin"/>
              </a:rPr>
              <a:t>لیست دانشجویان درس عناصر و جزئیات ساختمان     ترم: بهمن  </a:t>
            </a:r>
            <a:r>
              <a:rPr b="1" lang="fa-IR" sz="1800" spc="-1" strike="noStrike">
                <a:solidFill>
                  <a:srgbClr val="558ed5"/>
                </a:solidFill>
                <a:latin typeface="Arial"/>
                <a:ea typeface="B Nazanin"/>
              </a:rPr>
              <a:t>99</a:t>
            </a:r>
            <a:r>
              <a:rPr b="1" lang="fa-IR" sz="1800" spc="-1" strike="noStrike">
                <a:solidFill>
                  <a:srgbClr val="558ed5"/>
                </a:solidFill>
                <a:latin typeface="Arial"/>
                <a:ea typeface="B Nazanin"/>
              </a:rPr>
              <a:t>-</a:t>
            </a:r>
            <a:r>
              <a:rPr b="1" lang="fa-IR" sz="1800" spc="-1" strike="noStrike">
                <a:solidFill>
                  <a:srgbClr val="558ed5"/>
                </a:solidFill>
                <a:latin typeface="Arial"/>
                <a:ea typeface="B Nazanin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C:\Users\Novin Pendar\Desktop\عناصر.JPG"/>
          <p:cNvPicPr/>
          <p:nvPr/>
        </p:nvPicPr>
        <p:blipFill>
          <a:blip r:embed="rId1"/>
          <a:stretch/>
        </p:blipFill>
        <p:spPr>
          <a:xfrm>
            <a:off x="4716360" y="404640"/>
            <a:ext cx="3827520" cy="64612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E:\E\دانشکده چمران\98\ترم دوم\عناصر و جزئیات\New Doc ۲۰۲۰-۰۴-۰۴_1.jpg"/>
          <p:cNvPicPr/>
          <p:nvPr/>
        </p:nvPicPr>
        <p:blipFill>
          <a:blip r:embed="rId1"/>
          <a:stretch/>
        </p:blipFill>
        <p:spPr>
          <a:xfrm>
            <a:off x="3419640" y="6480"/>
            <a:ext cx="5724360" cy="6783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E:\E\دانشکده چمران\98\ترم دوم\عناصر و جزئیات\New Doc ۲۰۲۰-۰۴-۰۴_2.jpg"/>
          <p:cNvPicPr/>
          <p:nvPr/>
        </p:nvPicPr>
        <p:blipFill>
          <a:blip r:embed="rId1"/>
          <a:stretch/>
        </p:blipFill>
        <p:spPr>
          <a:xfrm>
            <a:off x="3635280" y="23760"/>
            <a:ext cx="5508720" cy="6846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3" descr="E:\E\دانشکده چمران\98\ترم دوم\عناصر و جزئیات\New Doc ۲۰۲۰-۰۴-۰۴_3.jpg"/>
          <p:cNvPicPr/>
          <p:nvPr/>
        </p:nvPicPr>
        <p:blipFill>
          <a:blip r:embed="rId1"/>
          <a:stretch/>
        </p:blipFill>
        <p:spPr>
          <a:xfrm>
            <a:off x="2987640" y="27000"/>
            <a:ext cx="5464080" cy="6978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3" descr="E:\E\دانشکده چمران\98\ترم دوم\عناصر و جزئیات\New Doc ۲۰۲۰-۰۴-۰۴_4.jpg"/>
          <p:cNvPicPr/>
          <p:nvPr/>
        </p:nvPicPr>
        <p:blipFill>
          <a:blip r:embed="rId1"/>
          <a:stretch/>
        </p:blipFill>
        <p:spPr>
          <a:xfrm>
            <a:off x="2987640" y="0"/>
            <a:ext cx="6015240" cy="7007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E:\E\دانشکده چمران\98\ترم دوم\عناصر و جزئیات\New Doc ۲۰۲۰-۰۴-۰۴_5.jpg"/>
          <p:cNvPicPr/>
          <p:nvPr/>
        </p:nvPicPr>
        <p:blipFill>
          <a:blip r:embed="rId1"/>
          <a:stretch/>
        </p:blipFill>
        <p:spPr>
          <a:xfrm>
            <a:off x="3348000" y="0"/>
            <a:ext cx="5796000" cy="691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3" descr="E:\E\دانشکده چمران\98\ترم دوم\عناصر و جزئیات\New Doc ۲۰۲۰-۰۴-۰۴_6.jpg"/>
          <p:cNvPicPr/>
          <p:nvPr/>
        </p:nvPicPr>
        <p:blipFill>
          <a:blip r:embed="rId1"/>
          <a:stretch/>
        </p:blipFill>
        <p:spPr>
          <a:xfrm>
            <a:off x="3635280" y="6480"/>
            <a:ext cx="5504040" cy="6813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E:\E\دانشکده چمران\98\ترم دوم\عناصر و جزئیات\New Doc ۲۰۲۰-۰۴-۰۴_7.jpg"/>
          <p:cNvPicPr/>
          <p:nvPr/>
        </p:nvPicPr>
        <p:blipFill>
          <a:blip r:embed="rId1"/>
          <a:stretch/>
        </p:blipFill>
        <p:spPr>
          <a:xfrm>
            <a:off x="3059280" y="15840"/>
            <a:ext cx="6064200" cy="6872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5T12:54:59Z</dcterms:modified>
  <cp:revision>631</cp:revision>
  <dc:subject/>
  <dc:title>Slide 1</dc:title>
</cp:coreProperties>
</file>