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D3C-7552-4BC7-B9D1-4B4A77BA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2C5-A064-4459-994E-5BECA1EA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253F-FF08-4396-AAF6-B42F6C97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026-729F-4ACB-B5AC-E5DCE132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6AF7-E5AA-471E-89D9-CDFA2DA3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C230-314D-4F20-BF43-D9B5E4BD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CEE0-E8CE-4A6A-A201-300C1FEC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D28B-6E7F-4E4A-BC8A-9BA36152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5F31-3008-46F7-942B-481D3AE3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C02F-68E9-490A-924C-26007407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184F-A24B-4175-BD6C-B9D7EA9F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726-74FE-4ACA-BE1F-A2C302AF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0BEF-1D89-4BA4-9313-22D59AC9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1196-2716-46E7-A4A0-F15A39D9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3516-8EE5-44BD-ABFC-5613255D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161B-D8FC-4108-B8C7-7A3EF0CD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A7DC-DE9E-430C-A806-7133739A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9C835-F7AA-424B-A1C7-7B6F2DA9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AED6A-B631-4B49-8F94-0B0AA0CD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5F95B-C7A7-400F-BB73-7111F42D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01E30-ED14-4F25-9BB0-C40DD6FA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E93EF-15F2-4125-A6B7-CBFF8A4C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30C-9D78-455C-88D8-DF60775B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9A11C-0794-4CE5-84DC-5E31F3F0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681B4-109A-42C4-B5D4-125B8B27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796E6-6DAF-48F4-BE5C-1DE981BD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4242A-5704-4CB2-BB7F-40E0B8E9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A388F-3A7F-4BC8-BF7D-572E185B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4ECCD-4CF7-4DE4-A002-4E081739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76780-4D48-406C-93E4-FC6869EB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D7D88-7799-41BD-9418-BC5947A0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3D003-D48D-4A1F-9DE9-3483F46A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54A90-4E28-4F88-977D-2AE06E15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D01A-443A-4DDA-A653-F148A7B0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50670-54DF-45C3-9C47-6C309E76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48F2D-513B-4AC0-A6F7-F8F42B47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7A0B9-934B-499F-973F-7776E32D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5E8B5-F474-4612-9652-6FA8597B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4C752-D2CB-4B07-A329-95EDCD98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0B6CC-8D56-4522-8D08-814BEFCF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86B05-6F6B-4C42-9CB1-E5F3E29F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BBCCD-AEC7-464A-BF45-BFF841DD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E307C-DB0E-4DE3-A65C-6079C54D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2836AB-19B6-4230-8922-1EE5E9F5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384-2440-41AB-A292-30868F81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CF8289-03A4-4BB4-9D3E-52459DDD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8208D1-D028-431D-AFD1-9F531CF1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E4728-C4A9-4D89-914F-87FD03E7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31D2A-2026-46EB-83CB-ED906D5C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550B43-8866-4FB1-9ADA-EBB045A9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D4559-BD19-40AC-87E7-378CEB0B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855259-DC3E-46E2-A88D-5DD66937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FA532-D8E1-4E91-AB84-4A9AB7EA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47427-8D6A-4DEB-8FC8-8AEE87CF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00FAB2-4F0B-47C4-8BC2-C257E3BC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9A52-C691-4BCD-A258-8765DAC1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97215D-D9B0-40D7-8B88-BAC7F5E6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FD1D3E-DD24-4013-ADEF-A318C15B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B5E716-C03B-4103-BC4E-1AD4127B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C4DB8E-358F-4770-AE01-F04CFFF3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028EE5-CEFB-44C9-9B43-335F3D3D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AE5FEA-8E8C-4C6C-A38F-3A996F74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488776-CB14-4358-B6F4-BFA7DC2D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DBB6A5-3090-4036-B076-77858432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69CF9-031A-4861-B0DF-01E41E4D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DFFE81-DDF6-425D-BEBB-DB1145F9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186-2C78-4845-AA63-03E5E6FA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002FA0-106F-4E96-8E99-8454A34E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FCB00-4549-491B-9904-7A64A527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A70D92-49B3-4137-AF4B-56167536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AA72D8-479E-4629-BB5E-AEAB1765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4D2590-A6B1-4E16-8D99-12E49C75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AD08D7-A4AD-408E-8109-8F0764EB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C7FE1E-842E-406C-825E-641A0339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860013-DFE9-4AFF-81FB-A0658BEF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416D70-5DD3-477E-92CE-2993D4EE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201A0D-8C73-4807-97DD-8D1C4CFC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DA4-6CE4-4D72-94A3-9AD51260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BF014E-6E44-40DF-A098-A1E60B74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449146-58F1-468C-8B06-92669A07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F60D0C-BC8B-440B-8589-44758EDF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31E4E4-3711-4B70-9CBC-56EFD4CD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DBA7FB-C710-4258-B0BA-DF1FB0B0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9A3B-6E10-47E6-AEA7-156A442E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11B3-B870-446D-BA59-7DE052C85696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52BD-45B4-40E6-B04F-C8D93A98DAC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CBC8-7A35-4558-BE4D-B93D7B0118E1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B2F3-C619-47DF-BC01-322D909467D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240E-115A-4614-AA14-332F713C19A4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021B-36C4-4CC8-A65C-761DAECD2F9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BA42-4C71-48E5-8B77-9A3B92145375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1835280" y="1341360"/>
            <a:ext cx="6769080" cy="89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اول آموزش مجازی</a:t>
            </a:r>
            <a:r>
              <a:rPr b="0" lang="fa-IR" sz="5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5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9"/>
          <p:cNvSpPr/>
          <p:nvPr/>
        </p:nvSpPr>
        <p:spPr>
          <a:xfrm>
            <a:off x="3995640" y="115920"/>
            <a:ext cx="172404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8"/>
          <p:cNvSpPr/>
          <p:nvPr/>
        </p:nvSpPr>
        <p:spPr>
          <a:xfrm>
            <a:off x="2771640" y="-68400"/>
            <a:ext cx="59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558ed5"/>
                </a:solidFill>
                <a:latin typeface="Arial"/>
                <a:cs typeface="B Nazanin"/>
              </a:rPr>
              <a:t>لیست دانشجویان درس عناصر و جزئیات ساختمان     ترم: بهمن  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99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-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C:\Users\Novin Pendar\Desktop\عناصر.JPG"/>
          <p:cNvPicPr/>
          <p:nvPr/>
        </p:nvPicPr>
        <p:blipFill>
          <a:blip r:embed="rId1"/>
          <a:stretch/>
        </p:blipFill>
        <p:spPr>
          <a:xfrm>
            <a:off x="4716360" y="404640"/>
            <a:ext cx="3827520" cy="64612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E:\E\دانشکده چمران\98\ترم دوم\عناصر و جزئیات\New Doc ۲۰۲۰-۰۴-۰۴_1.jpg"/>
          <p:cNvPicPr/>
          <p:nvPr/>
        </p:nvPicPr>
        <p:blipFill>
          <a:blip r:embed="rId1"/>
          <a:stretch/>
        </p:blipFill>
        <p:spPr>
          <a:xfrm>
            <a:off x="3419640" y="6480"/>
            <a:ext cx="5724360" cy="6783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E:\E\دانشکده چمران\98\ترم دوم\عناصر و جزئیات\New Doc ۲۰۲۰-۰۴-۰۴_2.jpg"/>
          <p:cNvPicPr/>
          <p:nvPr/>
        </p:nvPicPr>
        <p:blipFill>
          <a:blip r:embed="rId1"/>
          <a:stretch/>
        </p:blipFill>
        <p:spPr>
          <a:xfrm>
            <a:off x="3635280" y="23760"/>
            <a:ext cx="5508720" cy="6846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" descr="E:\E\دانشکده چمران\98\ترم دوم\عناصر و جزئیات\New Doc ۲۰۲۰-۰۴-۰۴_3.jpg"/>
          <p:cNvPicPr/>
          <p:nvPr/>
        </p:nvPicPr>
        <p:blipFill>
          <a:blip r:embed="rId1"/>
          <a:stretch/>
        </p:blipFill>
        <p:spPr>
          <a:xfrm>
            <a:off x="2987640" y="27000"/>
            <a:ext cx="5464080" cy="6978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E:\E\دانشکده چمران\98\ترم دوم\عناصر و جزئیات\New Doc ۲۰۲۰-۰۴-۰۴_4.jpg"/>
          <p:cNvPicPr/>
          <p:nvPr/>
        </p:nvPicPr>
        <p:blipFill>
          <a:blip r:embed="rId1"/>
          <a:stretch/>
        </p:blipFill>
        <p:spPr>
          <a:xfrm>
            <a:off x="2987640" y="0"/>
            <a:ext cx="6015240" cy="7007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E:\E\دانشکده چمران\98\ترم دوم\عناصر و جزئیات\New Doc ۲۰۲۰-۰۴-۰۴_5.jpg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691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" descr="E:\E\دانشکده چمران\98\ترم دوم\عناصر و جزئیات\New Doc ۲۰۲۰-۰۴-۰۴_6.jpg"/>
          <p:cNvPicPr/>
          <p:nvPr/>
        </p:nvPicPr>
        <p:blipFill>
          <a:blip r:embed="rId1"/>
          <a:stretch/>
        </p:blipFill>
        <p:spPr>
          <a:xfrm>
            <a:off x="3635280" y="6480"/>
            <a:ext cx="5504040" cy="681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E:\E\دانشکده چمران\98\ترم دوم\عناصر و جزئیات\New Doc ۲۰۲۰-۰۴-۰۴_7.jpg"/>
          <p:cNvPicPr/>
          <p:nvPr/>
        </p:nvPicPr>
        <p:blipFill>
          <a:blip r:embed="rId1"/>
          <a:stretch/>
        </p:blipFill>
        <p:spPr>
          <a:xfrm>
            <a:off x="3059280" y="15840"/>
            <a:ext cx="6064200" cy="6872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2:54:59Z</dcterms:modified>
  <cp:revision>631</cp:revision>
  <dc:subject/>
  <dc:title>Slide 1</dc:title>
</cp:coreProperties>
</file>