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71C-9B5D-4DB6-8725-0DD2447E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72D-95E5-459B-AB5D-C9975BF9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18F-9BD7-4761-A94C-711B4166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FC0-1FF8-47D7-B1E2-4114A1E3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FBAF-FB9E-461E-8DC4-75D0D1D9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E34B-41BD-4CA0-8D4C-8CBCC46C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5AF2-3E09-428F-B2F2-D4D985AA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5151-6052-4567-9024-71E7F24D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855C-655D-4BE3-9B2E-016827BA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6AFD-C80C-4C6A-9BD8-710D2CD5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50F7-BF27-493B-9C96-F9848B7B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E55-2275-4C71-87BB-071C33D3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652F-CDEA-46A9-BF5D-B619F41D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9BEF-E60E-413A-8F79-6AAB66DB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682C-9FF6-42D9-B476-A4944F87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BE3C-9794-4A34-ADCC-A7C4AED6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241D-FB88-43C2-9186-3E4C3FD0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E39F5-AF2E-4889-81D8-30C4B4E9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40263-5F69-45FE-9D40-BD7F2F5C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B2CB2-2527-49D0-B4B9-ADD098BF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EC91F-4474-4A62-A864-B049F350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DBDEF-5A74-476C-8DAF-2DC1960A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928-5BBB-4582-993D-A9AB3D7E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714CB-6E8E-43FD-B294-A9A2816F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95A73-8AB1-43B9-8722-3627FBA3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BF836-A022-42D7-AFBE-71BDEE4B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51BFA-6DAE-428D-87B0-4A909231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2E951-CEE6-4869-B8BB-37F5E113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87468-7327-4D98-ACEC-D7E5DF79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F1B40-810D-4B07-89F3-A16376F3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0E15A-0CB0-442C-8C1E-35932E5E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C93FF-1545-42EE-831B-75446354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37831-3682-4042-816A-7493FC9A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2ECD-8770-42CB-B54C-E3642D3B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FC9DD-44EB-4DCF-9E9D-17387ED3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592DB-7D6C-4713-A1F8-9A625B0E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2011E-335D-4FF9-90B0-552AD7F9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13324-FA81-422E-B62B-FF51FD4E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2E5F8-8E79-4077-8D84-573672C9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63949-4F43-403F-9E50-2EF03884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1BCFF-0082-4F35-A9F9-4D951E81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73753-6D32-4D28-AA76-CD9B5A77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E9AF3-CB91-4817-9720-C1B895A7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43EC5E-0B34-4D48-8398-7EA09F86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FC1F-EF88-4E52-A422-C5B1EE65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CABDFC-3B64-471E-986E-D4D8B7A7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17B70-7152-450B-9685-04198F0D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DABDF6-B413-4DA2-911B-49A319F3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37511D-66BE-4996-9F68-28BB20BE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2773B-1A0B-488A-A14A-0C900903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E5ABD3-3F7C-490F-9CEE-8C7A2D0A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CF8CBE-F244-4149-900C-EF47FC70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C6156-D183-4CF4-9400-4323A10A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AD7902-5FF1-4F23-82EC-7CFABD95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43306-52F2-4053-9F8D-9D528DDD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FCD-6DC4-4D0E-8C18-2C9B24B1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E35B66-0CC8-4572-942B-697348FD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0ED923-AAAC-47FA-8030-BA9F61EB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0E1040-F6C1-407F-93D7-7A34F59F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B7990-C2CA-4D76-9843-C53A86E0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39CC0A-EE56-413B-926B-15D8F8E8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7E4C0A-1397-4029-B3BD-36E83B28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C57750-2F35-40FF-ABA9-4B3B7B92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110B7-FF93-4CAA-BCF1-3880242A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39B91F-7B5C-4175-9E43-6B4C80EF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237C93-F776-4F7E-8843-C8180101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126-9017-47E0-AF40-C2EFE158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7D778-8258-4B7A-9CF1-D4F5BFC9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810F2-1E8B-4131-AD80-FC1DCE03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84649A-7B5E-42AE-AB40-226F6D68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5DE17C-C35E-4FDC-969D-C4D091DF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DF6392-EC03-4862-8583-8B8E217C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953CAE-C92A-4343-B6CA-63F588F2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098E80-408D-4CCD-AE2C-7EC37DFB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D00DE0-5E4F-43C1-B6B6-2DED98E0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0E9076-0530-4BAC-B06B-000A69EA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6EE57-7F68-4998-81DB-4C90A0C1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F35-B5EB-4A8F-ABC0-3B67DE8F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E9D402-2BAD-45AC-9674-E00E61EB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24544B-3614-4FD6-8189-D87131AA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3B7A6-46B8-475B-B264-8A235384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083579-309D-4A62-B5FF-ECB38D53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7E63BE-31CD-44CA-888E-ECE03F1D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06B-E94D-49B5-B869-B94C6AE9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1517-20A7-40E8-A7A6-52ADEC06930B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BEA8-844B-4DC4-A749-D295994338A9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9FB8-9C69-41DE-AE53-C52AE9D31C0F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8763-8508-47DD-A16B-F9F2F0AAAAE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E2D0-D906-4BA9-947D-9EFFBA7611EB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916A-75D9-417F-B4EC-66D5CF5B3CAF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3148-AAF5-4EB7-8097-0FB6BE953530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835280" y="1341360"/>
            <a:ext cx="6769080" cy="89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اول آموزش مجازی</a:t>
            </a:r>
            <a:r>
              <a:rPr b="0" lang="fa-IR" sz="5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5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9"/>
          <p:cNvSpPr/>
          <p:nvPr/>
        </p:nvSpPr>
        <p:spPr>
          <a:xfrm>
            <a:off x="3995640" y="115920"/>
            <a:ext cx="172404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8"/>
          <p:cNvSpPr/>
          <p:nvPr/>
        </p:nvSpPr>
        <p:spPr>
          <a:xfrm>
            <a:off x="2771640" y="-68400"/>
            <a:ext cx="59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558ed5"/>
                </a:solidFill>
                <a:latin typeface="Arial"/>
                <a:cs typeface="B Nazanin"/>
              </a:rPr>
              <a:t>لیست دانشجویان درس عناصر و جزئیات ساختمان     ترم: بهمن  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99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-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C:\Users\Novin Pendar\Desktop\عناصر.JPG"/>
          <p:cNvPicPr/>
          <p:nvPr/>
        </p:nvPicPr>
        <p:blipFill>
          <a:blip r:embed="rId1"/>
          <a:stretch/>
        </p:blipFill>
        <p:spPr>
          <a:xfrm>
            <a:off x="4716360" y="404640"/>
            <a:ext cx="3827520" cy="6461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E:\E\دانشکده چمران\98\ترم دوم\عناصر و جزئیات\New Doc ۲۰۲۰-۰۴-۰۴_1.jpg"/>
          <p:cNvPicPr/>
          <p:nvPr/>
        </p:nvPicPr>
        <p:blipFill>
          <a:blip r:embed="rId1"/>
          <a:stretch/>
        </p:blipFill>
        <p:spPr>
          <a:xfrm>
            <a:off x="3419640" y="6480"/>
            <a:ext cx="5724360" cy="6783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E:\E\دانشکده چمران\98\ترم دوم\عناصر و جزئیات\New Doc ۲۰۲۰-۰۴-۰۴_2.jpg"/>
          <p:cNvPicPr/>
          <p:nvPr/>
        </p:nvPicPr>
        <p:blipFill>
          <a:blip r:embed="rId1"/>
          <a:stretch/>
        </p:blipFill>
        <p:spPr>
          <a:xfrm>
            <a:off x="3635280" y="23760"/>
            <a:ext cx="5508720" cy="684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E:\E\دانشکده چمران\98\ترم دوم\عناصر و جزئیات\New Doc ۲۰۲۰-۰۴-۰۴_3.jpg"/>
          <p:cNvPicPr/>
          <p:nvPr/>
        </p:nvPicPr>
        <p:blipFill>
          <a:blip r:embed="rId1"/>
          <a:stretch/>
        </p:blipFill>
        <p:spPr>
          <a:xfrm>
            <a:off x="2987640" y="27000"/>
            <a:ext cx="5464080" cy="6978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E:\E\دانشکده چمران\98\ترم دوم\عناصر و جزئیات\New Doc ۲۰۲۰-۰۴-۰۴_4.jpg"/>
          <p:cNvPicPr/>
          <p:nvPr/>
        </p:nvPicPr>
        <p:blipFill>
          <a:blip r:embed="rId1"/>
          <a:stretch/>
        </p:blipFill>
        <p:spPr>
          <a:xfrm>
            <a:off x="2987640" y="0"/>
            <a:ext cx="6015240" cy="7007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E:\E\دانشکده چمران\98\ترم دوم\عناصر و جزئیات\New Doc ۲۰۲۰-۰۴-۰۴_5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691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" descr="E:\E\دانشکده چمران\98\ترم دوم\عناصر و جزئیات\New Doc ۲۰۲۰-۰۴-۰۴_6.jpg"/>
          <p:cNvPicPr/>
          <p:nvPr/>
        </p:nvPicPr>
        <p:blipFill>
          <a:blip r:embed="rId1"/>
          <a:stretch/>
        </p:blipFill>
        <p:spPr>
          <a:xfrm>
            <a:off x="3635280" y="6480"/>
            <a:ext cx="5504040" cy="681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E:\E\دانشکده چمران\98\ترم دوم\عناصر و جزئیات\New Doc ۲۰۲۰-۰۴-۰۴_7.jpg"/>
          <p:cNvPicPr/>
          <p:nvPr/>
        </p:nvPicPr>
        <p:blipFill>
          <a:blip r:embed="rId1"/>
          <a:stretch/>
        </p:blipFill>
        <p:spPr>
          <a:xfrm>
            <a:off x="3059280" y="15840"/>
            <a:ext cx="6064200" cy="6872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2:54:59Z</dcterms:modified>
  <cp:revision>631</cp:revision>
  <dc:subject/>
  <dc:title>Slide 1</dc:title>
</cp:coreProperties>
</file>