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846-AD91-4BA2-BDD9-FFC04463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850-AC4A-4C2C-994D-4697271E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24A-4AAD-4A8C-AEE9-7E250994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E90-A1D1-47F6-B0DA-6E0FB4F9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ADC1-B4D0-41D2-AC1A-BA9F2A41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257-93BF-43B3-961D-1AB99F19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56A6-BD2A-4141-A8CB-585608F9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571C-7783-4883-9721-BAB5AEB9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09BA-436C-4636-AB48-CB4E6828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6949-59AA-455F-BB7E-8EF7DC69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0D5-AC2C-40C3-98FB-523DE439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611-9727-4833-8844-B337C1F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652F-96DF-421C-8A9D-EE16B236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4B4E-CAD0-4ED8-BE7D-92A4E42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4990-4F91-4500-9FCC-F266034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67B0-32DA-4804-B648-CA6EFCA3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1C6C-5586-4E15-9475-9A802495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E159A-0819-4FEC-9BAF-406E96A2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2C800-A9D3-4308-A7DE-83D3FBDD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0B0B5-B779-47AD-8A4C-80059E55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42F80-BFD7-4BE1-A021-E2E6836C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EADBD-98C8-4F57-A485-DBDA2BC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728-C015-4BCD-BC7D-268D82F6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4F470-8E4F-4FCF-BF33-A978094B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0204A-EDED-469B-9EDE-F47B3A3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FFDD6-0F27-4F34-8349-C9005E4D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ECB53-0D39-43E7-B26B-13BC30B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45004-4904-42DE-923C-6BACEE2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25806-7C1D-4B98-AD45-32BE17B9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511DA-D8D7-4D9D-B26A-4C99A9C5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CFA2-1A84-4719-A1B3-3E5E32AD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0980-5478-40FD-89FD-9353591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BC9F-13A1-4B52-95C9-2C413BAB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0B8-8970-4694-B7F5-38F2DCE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9EE2-4598-4420-9FEC-FBB9CE67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1C00-43D2-4155-9ED3-10C23CE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7E527-5DC5-430C-AD87-EF36802D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AB81-E251-4CF0-8FF7-4C85C685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F70E-AF9C-497B-A95D-AC7E72D4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EB58-EF72-48BF-BCF3-7330A12D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1753-4C08-4E08-890E-FB0B07C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47A1-18CB-431E-9751-CD234FA4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722F-A03C-4431-AE98-09BE4000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4CEAE-C557-41AC-9503-F2E8F7A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9E9-99FB-45B3-A32F-F0985526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8D062-A26E-4E0D-8339-BC0347BB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2E857-41FB-44D0-AC5E-01728064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DD269-81EB-499E-B96D-B8BFC52F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2E209-BA83-4ADF-BCF2-7C5BE66C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F8DDF-B3E9-44DC-91E3-B4D22C71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CAB83-0078-4E9D-855D-41D433E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68F5D-916E-4889-A6BA-9A4A9310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CA27E-C14E-441D-BE3B-039FCC9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1EC55-8B69-480D-8545-6F91293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4C7DD-5ED1-45D8-A1A3-1480D193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1CB-1E05-499E-9DD0-F5D3C64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D58B6-8096-4362-90BB-E65159A5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24DD7D-2D85-4C52-A9BB-4FFA2C9A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5E43A-DC95-46B7-AB35-D8E8C60F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67433-3520-40F2-9CB5-2EFCD0E8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409C2-0A2C-4B38-95CB-EDC5359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9F8DB-35A2-429C-83E4-BDCAB76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F7170-0236-49B2-898F-7C895DA5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81616-131E-44BC-A4A5-EC149559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A4D18-857D-40FE-814E-506D4D6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621D8-22EF-4B74-B034-DAB9AEF4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86B-5DD0-43EC-AFA4-D2A78C7C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4C29A-132B-4073-B77B-DEB18471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99CACC-F5D1-41A1-B7F4-B96CC97B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7BFC5-7720-43B8-A884-E34026C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CF2F9-EBC4-4FC2-9CDC-DD2C1FA3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94754-7E95-49D2-BF97-6B44577E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A1150-E5E3-44A9-A2A4-1F448E50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E2AE54-93CA-488B-AF99-999F3637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4E5CE-218A-42D9-9BAD-ED91A3E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48D2E-699C-4804-90E2-16D9C14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47769-25EE-49FA-AD14-D488D8D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B7F-1939-4A62-BBEC-AAA6CA0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0774AB-DBC8-4266-B564-94DD4BA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66B6F-228A-4D18-BDBB-19906FD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F9FA3-39ED-4649-B0B6-B5E6733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D08DC-B264-4E13-9A87-4D371432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49810-E2EB-4F25-9C2C-B7894C23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A3D-06E9-4B06-8D26-1316117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315-BFE8-49AA-A7C8-CFFC3BC540F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55BC-F1B4-4184-AAA9-3C3ADF3358A4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84EE-866F-4F9E-A0D3-586E22B6145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B9F1-38BC-435F-A937-9762BB9C321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C23-BB9C-4715-B158-31001459277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64D9-A7DF-4D72-9A89-46C756B9241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6BE7-8DF1-4302-83A1-BD255EB3C5B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835280" y="1341360"/>
            <a:ext cx="6769080" cy="89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اول آموزش مجازی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5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9"/>
          <p:cNvSpPr/>
          <p:nvPr/>
        </p:nvSpPr>
        <p:spPr>
          <a:xfrm>
            <a:off x="3995640" y="115920"/>
            <a:ext cx="1724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4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8"/>
          <p:cNvSpPr/>
          <p:nvPr/>
        </p:nvSpPr>
        <p:spPr>
          <a:xfrm>
            <a:off x="2771640" y="-6840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558ed5"/>
                </a:solidFill>
                <a:latin typeface="Arial"/>
                <a:cs typeface="B Nazanin"/>
              </a:rPr>
              <a:t>لیست دانشجویان درس عناصر و جزئیات ساختمان     ترم: بهمن  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9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-</a:t>
            </a:r>
            <a:r>
              <a:rPr b="1" lang="fa-IR" sz="1800" spc="-1" strike="noStrike">
                <a:solidFill>
                  <a:srgbClr val="558ed5"/>
                </a:solidFill>
                <a:latin typeface="Arial"/>
                <a:ea typeface="B Nazanin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C:\Users\Novin Pendar\Desktop\عناصر.JPG"/>
          <p:cNvPicPr/>
          <p:nvPr/>
        </p:nvPicPr>
        <p:blipFill>
          <a:blip r:embed="rId1"/>
          <a:stretch/>
        </p:blipFill>
        <p:spPr>
          <a:xfrm>
            <a:off x="4716360" y="404640"/>
            <a:ext cx="3827520" cy="6461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E:\E\دانشکده چمران\98\ترم دوم\عناصر و جزئیات\New Doc ۲۰۲۰-۰۴-۰۴_1.jpg"/>
          <p:cNvPicPr/>
          <p:nvPr/>
        </p:nvPicPr>
        <p:blipFill>
          <a:blip r:embed="rId1"/>
          <a:stretch/>
        </p:blipFill>
        <p:spPr>
          <a:xfrm>
            <a:off x="3419640" y="6480"/>
            <a:ext cx="5724360" cy="6783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E:\E\دانشکده چمران\98\ترم دوم\عناصر و جزئیات\New Doc ۲۰۲۰-۰۴-۰۴_2.jpg"/>
          <p:cNvPicPr/>
          <p:nvPr/>
        </p:nvPicPr>
        <p:blipFill>
          <a:blip r:embed="rId1"/>
          <a:stretch/>
        </p:blipFill>
        <p:spPr>
          <a:xfrm>
            <a:off x="3635280" y="23760"/>
            <a:ext cx="550872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E:\E\دانشکده چمران\98\ترم دوم\عناصر و جزئیات\New Doc ۲۰۲۰-۰۴-۰۴_3.jpg"/>
          <p:cNvPicPr/>
          <p:nvPr/>
        </p:nvPicPr>
        <p:blipFill>
          <a:blip r:embed="rId1"/>
          <a:stretch/>
        </p:blipFill>
        <p:spPr>
          <a:xfrm>
            <a:off x="2987640" y="27000"/>
            <a:ext cx="546408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E:\E\دانشکده چمران\98\ترم دوم\عناصر و جزئیات\New Doc ۲۰۲۰-۰۴-۰۴_4.jpg"/>
          <p:cNvPicPr/>
          <p:nvPr/>
        </p:nvPicPr>
        <p:blipFill>
          <a:blip r:embed="rId1"/>
          <a:stretch/>
        </p:blipFill>
        <p:spPr>
          <a:xfrm>
            <a:off x="2987640" y="0"/>
            <a:ext cx="60152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3" descr="E:\E\دانشکده چمران\98\ترم دوم\عناصر و جزئیات\New Doc ۲۰۲۰-۰۴-۰۴_5.jpg"/>
          <p:cNvPicPr/>
          <p:nvPr/>
        </p:nvPicPr>
        <p:blipFill>
          <a:blip r:embed="rId1"/>
          <a:stretch/>
        </p:blipFill>
        <p:spPr>
          <a:xfrm>
            <a:off x="3348000" y="0"/>
            <a:ext cx="5796000" cy="691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" descr="E:\E\دانشکده چمران\98\ترم دوم\عناصر و جزئیات\New Doc ۲۰۲۰-۰۴-۰۴_6.jpg"/>
          <p:cNvPicPr/>
          <p:nvPr/>
        </p:nvPicPr>
        <p:blipFill>
          <a:blip r:embed="rId1"/>
          <a:stretch/>
        </p:blipFill>
        <p:spPr>
          <a:xfrm>
            <a:off x="3635280" y="6480"/>
            <a:ext cx="5504040" cy="68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val 23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E:\E\دانشکده چمران\98\ترم دوم\عناصر و جزئیات\New Doc ۲۰۲۰-۰۴-۰۴_7.jpg"/>
          <p:cNvPicPr/>
          <p:nvPr/>
        </p:nvPicPr>
        <p:blipFill>
          <a:blip r:embed="rId1"/>
          <a:stretch/>
        </p:blipFill>
        <p:spPr>
          <a:xfrm>
            <a:off x="3059280" y="15840"/>
            <a:ext cx="6064200" cy="687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2:54:59Z</dcterms:modified>
  <cp:revision>631</cp:revision>
  <dc:subject/>
  <dc:title>Slide 1</dc:title>
</cp:coreProperties>
</file>