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57D-172E-4830-9B35-344B4CA3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D47-D3A9-49C2-9F87-EDA1D6FC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741C-9890-499B-9293-259E1653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4AD-41FC-440D-87A2-8D0410DF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3626-0F08-471F-813A-64B768DB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A8D1-AEDF-4303-8889-592FA95D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FFE6-5A18-421E-A2DD-6FC5226A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D985-B2B4-48D0-B138-FFCDA6CE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2A22-4810-4365-A502-061461D2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C031-95AD-4CBC-87D2-7C787107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1670-AF2F-42FA-BC09-9B3DE54D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2C5-5F3F-42CD-B687-DEEEADC3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36CF-7A92-4F60-8EFC-D7DBAE49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660C-33B1-41FF-98F5-8E2DD5E1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5C8C-7FBC-4545-B52E-09BB95D7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A1DC-39BE-4BB4-953D-20678B7F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65F5-9822-4ED8-A55D-D220EC42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24B83-07AC-4D2F-A290-773AA7D2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7D9E9-D8CC-4C88-BDCA-2F600071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35503-CC3F-47DF-ACE7-E6B62C41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9C7DE4-277E-489D-BBA6-F44A53C0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579D9-E6C9-4246-8878-EFCBC585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0A1F-11E5-4948-9682-3E3C12A2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690CD2-6AF9-4728-9DAC-5CCFF6C0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D20DE-252E-426A-B46D-001882A9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0F5DFC-D399-4424-91DF-D706CA79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534AF-DC47-4F85-96E0-E4D0149F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801E4-3157-4B89-8BFF-092DAC0B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FFC26-4A86-40E0-B4E8-55B34D65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1638D-7BBA-4845-8193-0C87CB09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55EAD-A9E4-445D-AE65-80CC127A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A7A68-5540-41E8-8055-51EB134B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095B7-7DCB-4B2E-B39A-883CE1F4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329-AAF3-4303-A857-4EF3BB41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ECBF9-55DC-43CA-9D4F-51C9B369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BD77D-08FC-4810-BFAD-64288BE8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A115E-2399-4EDA-BC5E-92BC4FC1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76E11-CD83-477E-AF5A-935801D9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284CB-D34E-4F69-ADF0-BC4AB636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5BDDE-20DD-49BE-BAE7-DB17DF2D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03782-A5C0-4AA2-891B-CB64A104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B1824-5127-4FB5-BA40-D30A39AE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956C5-C1E9-441B-9A2C-D241A840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1B31B5-8716-4E7E-B54F-FF96DDD5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960-7B6D-4B08-BD8A-A621F014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32B9EC-138B-441D-9195-5D2AB228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69FA97-932C-41C7-9EBD-1F72DA14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DF09D5-02A7-4BCF-A17E-9C1DF3AC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1C5E73-FAE8-4770-950F-166C94F5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7AABD-F5D1-4012-967B-E4737B97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299618-B7DE-422A-AE25-1FA68BE4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FD891D-4653-4B05-8970-90F39FBB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B0F93-5B02-40D4-A8A6-A7E78768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DA0C7-0AE7-446D-8D66-27D8BF69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46C296-301F-40B1-BDAB-F0385369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0E5-7696-48D9-B263-18238A98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62C646-5BA0-4D47-AEF4-62EC4FD2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5FC1C-709D-42A6-AF7A-696922E8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33863E-A4F5-4849-B0B0-E0EFFE22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670CC3-5C64-4B1D-BF71-A6E2418F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EB1E16-49DC-418C-B650-E9D5DD93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C4E40B-B2B2-44DD-B63B-58BD3113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89B518-4607-4768-B487-EE746484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C61573-B038-4B15-9E99-FC64A50B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BDA90B-1EAF-459B-B719-1EC0271A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15D83A-3CE1-49E3-92C8-B97D6A3F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D15E-7906-403D-9BFB-2934CACA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D3420C-21A3-4B07-A7ED-24AC3EF4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B743D7-7A6A-435A-9C7A-C069DA8A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203C13-3220-4D28-AF17-5B56BCE1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60E816-8750-48FD-9B80-45392CF9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C4CE52-6556-4C85-A04A-3D2C7A72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D9DAE9-F60F-432F-90A5-D88A2F69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7E93FC-7642-4A54-B4F7-B5595086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C1C758-9C6B-46C8-873F-75A7B8F9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BCA15B-D325-45C7-9AB2-B9C8C9A1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703A95-A69F-432E-8CCE-C41750C2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7B8-A540-4C1F-9EB6-6A25BB7E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DEC214-638B-4D3C-BA5C-EB2B748D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763B80-1EAC-4474-8C0D-537FE5EB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D573A0-773D-451E-972A-569DA88A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FF5CF9-050C-428F-AA8D-D541E4D3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2DD4E0-B66E-434C-9ADC-4EE9E81F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8FE3-59A6-4B4C-9F99-3CE94A46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BFAB-A6B4-4526-86E3-AC2BFDBA81D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1D93-8736-4DCC-90AB-CD587357E80E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2C47-CE7B-4026-B5E1-D64E18807020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D6B9-686B-4924-93E5-57F5C276A6CE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AE2E-1A7F-4711-81E6-B5D52E6DFDA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8A99-6C1C-43E1-AD37-65DB3B117649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C2AF-890F-4375-991B-BF20FAC7856F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1835280" y="1341360"/>
            <a:ext cx="6769080" cy="89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اول آموزش مجازی</a:t>
            </a:r>
            <a:r>
              <a:rPr b="0" lang="fa-IR" sz="5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5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9"/>
          <p:cNvSpPr/>
          <p:nvPr/>
        </p:nvSpPr>
        <p:spPr>
          <a:xfrm>
            <a:off x="3995640" y="115920"/>
            <a:ext cx="172404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8"/>
          <p:cNvSpPr/>
          <p:nvPr/>
        </p:nvSpPr>
        <p:spPr>
          <a:xfrm>
            <a:off x="2771640" y="-68400"/>
            <a:ext cx="59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558ed5"/>
                </a:solidFill>
                <a:latin typeface="Arial"/>
                <a:cs typeface="B Nazanin"/>
              </a:rPr>
              <a:t>لیست دانشجویان درس عناصر و جزئیات ساختمان     ترم: بهمن  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99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-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C:\Users\Novin Pendar\Desktop\عناصر.JPG"/>
          <p:cNvPicPr/>
          <p:nvPr/>
        </p:nvPicPr>
        <p:blipFill>
          <a:blip r:embed="rId1"/>
          <a:stretch/>
        </p:blipFill>
        <p:spPr>
          <a:xfrm>
            <a:off x="4716360" y="404640"/>
            <a:ext cx="3827520" cy="64612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E:\E\دانشکده چمران\98\ترم دوم\عناصر و جزئیات\New Doc ۲۰۲۰-۰۴-۰۴_1.jpg"/>
          <p:cNvPicPr/>
          <p:nvPr/>
        </p:nvPicPr>
        <p:blipFill>
          <a:blip r:embed="rId1"/>
          <a:stretch/>
        </p:blipFill>
        <p:spPr>
          <a:xfrm>
            <a:off x="3419640" y="6480"/>
            <a:ext cx="5724360" cy="6783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E:\E\دانشکده چمران\98\ترم دوم\عناصر و جزئیات\New Doc ۲۰۲۰-۰۴-۰۴_2.jpg"/>
          <p:cNvPicPr/>
          <p:nvPr/>
        </p:nvPicPr>
        <p:blipFill>
          <a:blip r:embed="rId1"/>
          <a:stretch/>
        </p:blipFill>
        <p:spPr>
          <a:xfrm>
            <a:off x="3635280" y="23760"/>
            <a:ext cx="5508720" cy="6846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" descr="E:\E\دانشکده چمران\98\ترم دوم\عناصر و جزئیات\New Doc ۲۰۲۰-۰۴-۰۴_3.jpg"/>
          <p:cNvPicPr/>
          <p:nvPr/>
        </p:nvPicPr>
        <p:blipFill>
          <a:blip r:embed="rId1"/>
          <a:stretch/>
        </p:blipFill>
        <p:spPr>
          <a:xfrm>
            <a:off x="2987640" y="27000"/>
            <a:ext cx="5464080" cy="6978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E:\E\دانشکده چمران\98\ترم دوم\عناصر و جزئیات\New Doc ۲۰۲۰-۰۴-۰۴_4.jpg"/>
          <p:cNvPicPr/>
          <p:nvPr/>
        </p:nvPicPr>
        <p:blipFill>
          <a:blip r:embed="rId1"/>
          <a:stretch/>
        </p:blipFill>
        <p:spPr>
          <a:xfrm>
            <a:off x="2987640" y="0"/>
            <a:ext cx="6015240" cy="7007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E:\E\دانشکده چمران\98\ترم دوم\عناصر و جزئیات\New Doc ۲۰۲۰-۰۴-۰۴_5.jpg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691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" descr="E:\E\دانشکده چمران\98\ترم دوم\عناصر و جزئیات\New Doc ۲۰۲۰-۰۴-۰۴_6.jpg"/>
          <p:cNvPicPr/>
          <p:nvPr/>
        </p:nvPicPr>
        <p:blipFill>
          <a:blip r:embed="rId1"/>
          <a:stretch/>
        </p:blipFill>
        <p:spPr>
          <a:xfrm>
            <a:off x="3635280" y="6480"/>
            <a:ext cx="5504040" cy="681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E:\E\دانشکده چمران\98\ترم دوم\عناصر و جزئیات\New Doc ۲۰۲۰-۰۴-۰۴_7.jpg"/>
          <p:cNvPicPr/>
          <p:nvPr/>
        </p:nvPicPr>
        <p:blipFill>
          <a:blip r:embed="rId1"/>
          <a:stretch/>
        </p:blipFill>
        <p:spPr>
          <a:xfrm>
            <a:off x="3059280" y="15840"/>
            <a:ext cx="6064200" cy="6872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2:54:59Z</dcterms:modified>
  <cp:revision>631</cp:revision>
  <dc:subject/>
  <dc:title>Slide 1</dc:title>
</cp:coreProperties>
</file>